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3.wmf" ContentType="image/x-wmf"/>
  <Override PartName="/ppt/media/image9.jpeg" ContentType="image/jpeg"/>
  <Override PartName="/ppt/media/image25.wmf" ContentType="image/x-wmf"/>
  <Override PartName="/ppt/media/image13.wmf" ContentType="image/x-wmf"/>
  <Override PartName="/ppt/media/image8.jpeg" ContentType="image/jpeg"/>
  <Override PartName="/ppt/media/image35.png" ContentType="image/png"/>
  <Override PartName="/ppt/media/image36.png" ContentType="image/png"/>
  <Override PartName="/ppt/media/image40.png" ContentType="image/png"/>
  <Override PartName="/ppt/media/image38.wmf" ContentType="image/x-wmf"/>
  <Override PartName="/ppt/media/image41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1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BD79-6F0D-4845-81C2-0246130912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EAF1-3026-4112-9F54-3554657AE6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CAE3-9615-4B3D-A2DB-3364361EB7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9B7F-5C62-4BEA-8302-FC2F433D3A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34920" y="711360"/>
            <a:ext cx="4989600" cy="34542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начительное различие между относительным содержанием элементов 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1s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ктрами частично восстановленных образов и конечных частиц. Для первых- основной вклад в спектры дают оксиды. А для полностью восстановленных частиц- основной  пик от органических фрагментов. Анализ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s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 не приведены на рис.) 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1s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казывает, что для частично восстановленных образцов  строение стабилизирующего слоя достаточно близ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DFED-4636-4F36-8D1C-94654297B2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252A-0F9D-46B4-9CFE-84BFEB04E0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BF95-41F5-475E-AE55-7289C8A2D2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1BDE-48C5-4D84-AF3B-A430350AEE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D25-749D-4C9B-BE7A-2774390019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392-3FD1-424B-86C0-7DD4C51B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AAB-BE79-47D3-BA42-1D29D69F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9CD-371F-4E69-9426-3D0629BB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ECB-800C-4C84-97D1-D23115BA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DE8-7388-4844-8F27-A1C22158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E31-1861-4A4F-A54F-CECFD2A6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4A9-0232-4B0D-9F03-A6176AD7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5A1-E46C-49B8-BE3F-20B190E2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FC4-AE1E-49C5-949E-A249E5B4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965-70E7-4F98-801A-D070362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CC6-9AAC-406F-83F4-52265CF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854-34BE-46B4-BDE6-C3678FA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63080" y="151920"/>
            <a:ext cx="743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000" spc="-1" strike="noStrike">
                <a:solidFill>
                  <a:srgbClr val="ffffd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18F0-79AC-4803-A032-643325005BA6}" type="slidenum">
              <a:rPr b="0" i="1" lang="en-US" sz="2000" spc="-1" strike="noStrike">
                <a:solidFill>
                  <a:srgbClr val="ffffd7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7.wmf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7.wmf"/><Relationship Id="rId9" Type="http://schemas.openxmlformats.org/officeDocument/2006/relationships/image" Target="../media/image37.wmf"/><Relationship Id="rId10" Type="http://schemas.openxmlformats.org/officeDocument/2006/relationships/image" Target="../media/image34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7.wmf"/><Relationship Id="rId14" Type="http://schemas.openxmlformats.org/officeDocument/2006/relationships/image" Target="../media/image37.wmf"/><Relationship Id="rId15" Type="http://schemas.openxmlformats.org/officeDocument/2006/relationships/image" Target="../media/image34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7.wmf"/><Relationship Id="rId19" Type="http://schemas.openxmlformats.org/officeDocument/2006/relationships/image" Target="../media/image37.wmf"/><Relationship Id="rId20" Type="http://schemas.openxmlformats.org/officeDocument/2006/relationships/image" Target="../media/image36.png"/><Relationship Id="rId21" Type="http://schemas.openxmlformats.org/officeDocument/2006/relationships/image" Target="../media/image35.png"/><Relationship Id="rId2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34.png"/><Relationship Id="rId4" Type="http://schemas.openxmlformats.org/officeDocument/2006/relationships/image" Target="../media/image40.png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image" Target="../media/image34.png"/><Relationship Id="rId8" Type="http://schemas.openxmlformats.org/officeDocument/2006/relationships/image" Target="../media/image41.png"/><Relationship Id="rId9" Type="http://schemas.openxmlformats.org/officeDocument/2006/relationships/image" Target="../media/image37.wmf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1.png"/><Relationship Id="rId4" Type="http://schemas.openxmlformats.org/officeDocument/2006/relationships/image" Target="../media/image34.png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4.png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43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5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2.wmf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ФОРМИРОВАНИЕ СТАБИЛИЗИРУЮЩИХ И МОДИФИЦИРУЮЩИХ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СЛОЕВ НА ПОВЕРХНОСТИ ВЫСОКОДИСПЕРСНЫХ ЧАСТИЦ ЖЕЛЕЗА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7335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d"/>
                </a:solidFill>
                <a:latin typeface="Times New Roman"/>
              </a:rPr>
              <a:t>Михайлова Софья Серге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6483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Физико-технический институт УрО РА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г.Ижевс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588-0198-4D2B-943F-84BCF58950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146320" y="227520"/>
            <a:ext cx="4787640" cy="459720"/>
            <a:chOff x="2146320" y="227520"/>
            <a:chExt cx="4787640" cy="459720"/>
          </a:xfrm>
        </p:grpSpPr>
        <p:sp>
          <p:nvSpPr>
            <p:cNvPr id="401" name=""/>
            <p:cNvSpPr/>
            <p:nvPr/>
          </p:nvSpPr>
          <p:spPr>
            <a:xfrm>
              <a:off x="2487240" y="227520"/>
              <a:ext cx="41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Электролитическое оса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46320" y="228600"/>
              <a:ext cx="478764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283360" y="1133640"/>
            <a:ext cx="1650600" cy="1218960"/>
            <a:chOff x="5283360" y="1133640"/>
            <a:chExt cx="1650600" cy="1218960"/>
          </a:xfrm>
        </p:grpSpPr>
        <p:sp>
          <p:nvSpPr>
            <p:cNvPr id="404" name=""/>
            <p:cNvSpPr/>
            <p:nvPr/>
          </p:nvSpPr>
          <p:spPr>
            <a:xfrm>
              <a:off x="5283360" y="1133640"/>
              <a:ext cx="1650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Толуольная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фракция (Т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30680" y="1971720"/>
              <a:ext cx="107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C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18</a:t>
              </a: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O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4</a:t>
              </a:r>
              <a:r>
                <a:rPr b="0" lang="en-US" sz="3000" spc="-1" strike="noStrike" baseline="-25000">
                  <a:solidFill>
                    <a:srgbClr val="ffffbd"/>
                  </a:solidFill>
                  <a:latin typeface="Times New Roman"/>
                </a:rPr>
                <a:t>.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26040" y="1673280"/>
              <a:ext cx="0" cy="30492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641680" y="1066680"/>
            <a:ext cx="2145960" cy="1295280"/>
            <a:chOff x="2641680" y="1066680"/>
            <a:chExt cx="2145960" cy="1295280"/>
          </a:xfrm>
        </p:grpSpPr>
        <p:sp>
          <p:nvSpPr>
            <p:cNvPr id="408" name=""/>
            <p:cNvSpPr/>
            <p:nvPr/>
          </p:nvSpPr>
          <p:spPr>
            <a:xfrm>
              <a:off x="2641680" y="1066680"/>
              <a:ext cx="2145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Нерастворимы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осадок (НО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71800" y="1904760"/>
              <a:ext cx="1650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C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18</a:t>
              </a: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O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5</a:t>
              </a:r>
              <a:r>
                <a:rPr b="0" lang="en-US" sz="3000" spc="-1" strike="noStrike" baseline="-25000">
                  <a:solidFill>
                    <a:srgbClr val="ffffbd"/>
                  </a:solidFill>
                  <a:latin typeface="Times New Roman"/>
                </a:rPr>
                <a:t>.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Fe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0</a:t>
              </a:r>
              <a:r>
                <a:rPr b="0" lang="en-US" sz="3000" spc="-1" strike="noStrike" baseline="-25000">
                  <a:solidFill>
                    <a:srgbClr val="ffffbd"/>
                  </a:solidFill>
                  <a:latin typeface="Times New Roman"/>
                </a:rPr>
                <a:t>.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14480" y="1676160"/>
              <a:ext cx="0" cy="30492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1" name=""/>
          <p:cNvGraphicFramePr/>
          <p:nvPr/>
        </p:nvGraphicFramePr>
        <p:xfrm>
          <a:off x="152280" y="2819520"/>
          <a:ext cx="4210200" cy="2860560"/>
        </p:xfrm>
        <a:graphic>
          <a:graphicData uri="http://schemas.openxmlformats.org/drawingml/2006/table">
            <a:tbl>
              <a:tblPr/>
              <a:tblGrid>
                <a:gridCol w="1224000"/>
                <a:gridCol w="922320"/>
                <a:gridCol w="1011240"/>
                <a:gridCol w="1052640"/>
              </a:tblGrid>
              <a:tr h="5936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сительное содерж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ов, ат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60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842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еи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460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446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460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</a:tbl>
          </a:graphicData>
        </a:graphic>
      </p:graphicFrame>
      <p:grpSp>
        <p:nvGrpSpPr>
          <p:cNvPr id="412" name=""/>
          <p:cNvGrpSpPr/>
          <p:nvPr/>
        </p:nvGrpSpPr>
        <p:grpSpPr>
          <a:xfrm>
            <a:off x="660240" y="4343400"/>
            <a:ext cx="459000" cy="387360"/>
            <a:chOff x="660240" y="4343400"/>
            <a:chExt cx="459000" cy="38736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660240" y="4343400"/>
              <a:ext cx="4590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24400" y="4484880"/>
              <a:ext cx="144360" cy="1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"/>
          <p:cNvGrpSpPr/>
          <p:nvPr/>
        </p:nvGrpSpPr>
        <p:grpSpPr>
          <a:xfrm>
            <a:off x="4572000" y="2590920"/>
            <a:ext cx="2723760" cy="3368520"/>
            <a:chOff x="4572000" y="2590920"/>
            <a:chExt cx="2723760" cy="3368520"/>
          </a:xfrm>
        </p:grpSpPr>
        <p:graphicFrame>
          <p:nvGraphicFramePr>
            <p:cNvPr id="416" name=""/>
            <p:cNvGraphicFramePr/>
            <p:nvPr/>
          </p:nvGraphicFramePr>
          <p:xfrm>
            <a:off x="4572000" y="2590920"/>
            <a:ext cx="2723760" cy="336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590920"/>
                      <a:ext cx="2723760" cy="3368520"/>
                    </a:xfrm>
                    <a:prstGeom prst="rect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18" name=""/>
            <p:cNvSpPr/>
            <p:nvPr/>
          </p:nvSpPr>
          <p:spPr>
            <a:xfrm>
              <a:off x="5479560" y="2743200"/>
              <a:ext cx="492120" cy="29016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1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87080" y="5639040"/>
              <a:ext cx="1597320" cy="26532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Энергия связи, э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05400" y="3200400"/>
              <a:ext cx="429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70280" y="4343400"/>
              <a:ext cx="4298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Т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329600" y="1133640"/>
            <a:ext cx="2115720" cy="1196640"/>
            <a:chOff x="7329600" y="1133640"/>
            <a:chExt cx="2115720" cy="1196640"/>
          </a:xfrm>
        </p:grpSpPr>
        <p:sp>
          <p:nvSpPr>
            <p:cNvPr id="423" name=""/>
            <p:cNvSpPr/>
            <p:nvPr/>
          </p:nvSpPr>
          <p:spPr>
            <a:xfrm>
              <a:off x="7329600" y="1133640"/>
              <a:ext cx="21157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Гипотетическ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сополиме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37600" y="1676520"/>
              <a:ext cx="0" cy="30456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17840" y="1949400"/>
              <a:ext cx="90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bd"/>
                  </a:solidFill>
                  <a:latin typeface="Times New Roman"/>
                </a:rPr>
                <a:t>18</a:t>
              </a: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ffffbd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95360" y="1066680"/>
            <a:ext cx="1898280" cy="1447920"/>
            <a:chOff x="495360" y="1066680"/>
            <a:chExt cx="1898280" cy="1447920"/>
          </a:xfrm>
        </p:grpSpPr>
        <p:sp>
          <p:nvSpPr>
            <p:cNvPr id="427" name=""/>
            <p:cNvSpPr/>
            <p:nvPr/>
          </p:nvSpPr>
          <p:spPr>
            <a:xfrm>
              <a:off x="495360" y="1066680"/>
              <a:ext cx="189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no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Олеиновая к-т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5480" y="1676520"/>
              <a:ext cx="107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C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18</a:t>
              </a: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O</a:t>
              </a:r>
              <a:r>
                <a:rPr b="0" lang="ru-RU" sz="2800" spc="-1" strike="noStrike" baseline="-25000">
                  <a:solidFill>
                    <a:srgbClr val="ffffbd"/>
                  </a:solidFill>
                  <a:latin typeface="Times New Roman"/>
                </a:rPr>
                <a:t>2</a:t>
              </a:r>
              <a:r>
                <a:rPr b="0" lang="en-US" sz="3000" spc="-1" strike="noStrike" baseline="-25000">
                  <a:solidFill>
                    <a:srgbClr val="ffffbd"/>
                  </a:solidFill>
                  <a:latin typeface="Times New Roman"/>
                </a:rPr>
                <a:t>.</a:t>
              </a:r>
              <a:r>
                <a:rPr b="0" lang="en-US" sz="2800" spc="-1" strike="noStrike" baseline="-25000">
                  <a:solidFill>
                    <a:srgbClr val="ffffbd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3280" y="1371600"/>
              <a:ext cx="0" cy="30492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0240" y="2133720"/>
              <a:ext cx="1073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(теор 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C</a:t>
              </a:r>
              <a:r>
                <a:rPr b="0" lang="en-US" sz="2200" spc="-1" strike="noStrike" baseline="-25000">
                  <a:solidFill>
                    <a:srgbClr val="ffffbd"/>
                  </a:solidFill>
                  <a:latin typeface="Times New Roman"/>
                </a:rPr>
                <a:t>18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O</a:t>
              </a:r>
              <a:r>
                <a:rPr b="0" lang="ru-RU" sz="2200" spc="-1" strike="noStrike" baseline="-25000">
                  <a:solidFill>
                    <a:srgbClr val="ffffbd"/>
                  </a:solidFill>
                  <a:latin typeface="Times New Roman"/>
                </a:rPr>
                <a:t>2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473960" y="3124080"/>
            <a:ext cx="2286000" cy="2133720"/>
            <a:chOff x="7473960" y="3124080"/>
            <a:chExt cx="2286000" cy="2133720"/>
          </a:xfrm>
        </p:grpSpPr>
        <p:sp>
          <p:nvSpPr>
            <p:cNvPr id="432" name=""/>
            <p:cNvSpPr/>
            <p:nvPr/>
          </p:nvSpPr>
          <p:spPr>
            <a:xfrm>
              <a:off x="7473960" y="3124080"/>
              <a:ext cx="2286000" cy="2133720"/>
            </a:xfrm>
            <a:prstGeom prst="rect">
              <a:avLst/>
            </a:prstGeom>
            <a:solidFill>
              <a:srgbClr val="c1ffe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7657920" y="4189320"/>
              <a:ext cx="208080" cy="7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7823520" y="4762080"/>
              <a:ext cx="8766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489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4400" y="4707000"/>
              <a:ext cx="80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7844400" y="3881160"/>
              <a:ext cx="823320" cy="275040"/>
              <a:chOff x="7844400" y="3881160"/>
              <a:chExt cx="823320" cy="275040"/>
            </a:xfrm>
          </p:grpSpPr>
          <p:sp>
            <p:nvSpPr>
              <p:cNvPr id="437" name=""/>
              <p:cNvSpPr/>
              <p:nvPr/>
            </p:nvSpPr>
            <p:spPr>
              <a:xfrm>
                <a:off x="7967520" y="3881160"/>
                <a:ext cx="308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8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276760" y="3881160"/>
                <a:ext cx="308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8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77400" y="4010040"/>
                <a:ext cx="17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493120" y="4008600"/>
                <a:ext cx="174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44400" y="4018680"/>
                <a:ext cx="17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659000" y="3192840"/>
              <a:ext cx="208080" cy="1183680"/>
              <a:chOff x="7659000" y="3192840"/>
              <a:chExt cx="208080" cy="1183680"/>
            </a:xfrm>
          </p:grpSpPr>
          <p:pic>
            <p:nvPicPr>
              <p:cNvPr id="4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9000" y="3192840"/>
                <a:ext cx="208080" cy="70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9000" y="3674520"/>
                <a:ext cx="208080" cy="70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5" name=""/>
            <p:cNvGrpSpPr/>
            <p:nvPr/>
          </p:nvGrpSpPr>
          <p:grpSpPr>
            <a:xfrm>
              <a:off x="8616960" y="3192840"/>
              <a:ext cx="219600" cy="1668600"/>
              <a:chOff x="8616960" y="3192840"/>
              <a:chExt cx="219600" cy="1668600"/>
            </a:xfrm>
          </p:grpSpPr>
          <p:pic>
            <p:nvPicPr>
              <p:cNvPr id="44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629560" y="4159080"/>
                <a:ext cx="207000" cy="70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7" name=""/>
              <p:cNvGrpSpPr/>
              <p:nvPr/>
            </p:nvGrpSpPr>
            <p:grpSpPr>
              <a:xfrm>
                <a:off x="8616960" y="3192840"/>
                <a:ext cx="208080" cy="1183680"/>
                <a:chOff x="8616960" y="3192840"/>
                <a:chExt cx="208080" cy="1183680"/>
              </a:xfrm>
            </p:grpSpPr>
            <p:pic>
              <p:nvPicPr>
                <p:cNvPr id="44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616960" y="3192840"/>
                  <a:ext cx="208080" cy="70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616960" y="3674520"/>
                  <a:ext cx="20808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50" name=""/>
            <p:cNvGrpSpPr/>
            <p:nvPr/>
          </p:nvGrpSpPr>
          <p:grpSpPr>
            <a:xfrm>
              <a:off x="8832960" y="3881160"/>
              <a:ext cx="823320" cy="275040"/>
              <a:chOff x="8832960" y="3881160"/>
              <a:chExt cx="823320" cy="275040"/>
            </a:xfrm>
          </p:grpSpPr>
          <p:sp>
            <p:nvSpPr>
              <p:cNvPr id="451" name=""/>
              <p:cNvSpPr/>
              <p:nvPr/>
            </p:nvSpPr>
            <p:spPr>
              <a:xfrm>
                <a:off x="8956080" y="3881160"/>
                <a:ext cx="308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8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9265320" y="3881160"/>
                <a:ext cx="308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8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165960" y="4010040"/>
                <a:ext cx="17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481680" y="4008600"/>
                <a:ext cx="174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832960" y="4018680"/>
                <a:ext cx="174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4A2-BCC9-417B-8355-673DB45A15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95360" y="3657600"/>
            <a:ext cx="429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Присутствие ОН групп и 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b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на внешней сторо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стабилизирующего сло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063880" y="379800"/>
            <a:ext cx="4787280" cy="459720"/>
            <a:chOff x="2063880" y="379800"/>
            <a:chExt cx="4787280" cy="459720"/>
          </a:xfrm>
        </p:grpSpPr>
        <p:sp>
          <p:nvSpPr>
            <p:cNvPr id="458" name=""/>
            <p:cNvSpPr/>
            <p:nvPr/>
          </p:nvSpPr>
          <p:spPr>
            <a:xfrm>
              <a:off x="2404440" y="379800"/>
              <a:ext cx="41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Электролитическое оса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63880" y="380880"/>
              <a:ext cx="478728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695920" y="1143000"/>
            <a:ext cx="3735360" cy="5518080"/>
            <a:chOff x="5695920" y="1143000"/>
            <a:chExt cx="3735360" cy="5518080"/>
          </a:xfrm>
        </p:grpSpPr>
        <p:graphicFrame>
          <p:nvGraphicFramePr>
            <p:cNvPr id="461" name=""/>
            <p:cNvGraphicFramePr/>
            <p:nvPr/>
          </p:nvGraphicFramePr>
          <p:xfrm>
            <a:off x="5695920" y="1143000"/>
            <a:ext cx="3735360" cy="4876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95920" y="1143000"/>
                      <a:ext cx="3735360" cy="4876920"/>
                    </a:xfrm>
                    <a:prstGeom prst="rect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6356520" y="6095880"/>
              <a:ext cx="26413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Схема строени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стабилизирующего слоя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17600" y="1676520"/>
            <a:ext cx="4782600" cy="1752480"/>
            <a:chOff x="417600" y="1676520"/>
            <a:chExt cx="4782600" cy="1752480"/>
          </a:xfrm>
        </p:grpSpPr>
        <p:sp>
          <p:nvSpPr>
            <p:cNvPr id="465" name=""/>
            <p:cNvSpPr/>
            <p:nvPr/>
          </p:nvSpPr>
          <p:spPr>
            <a:xfrm>
              <a:off x="417600" y="1712880"/>
              <a:ext cx="21290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ИК спектроскопия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ffffb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полоса 3462 см</a:t>
              </a:r>
              <a:r>
                <a:rPr b="0" lang="ru-RU" sz="2000" spc="-1" strike="noStrike" baseline="30000">
                  <a:solidFill>
                    <a:srgbClr val="ffffbd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ffffb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полоса 1620 см</a:t>
              </a:r>
              <a:r>
                <a:rPr b="0" lang="ru-RU" sz="2000" spc="-1" strike="noStrike" baseline="30000">
                  <a:solidFill>
                    <a:srgbClr val="ffffbd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88640" y="1676520"/>
              <a:ext cx="23115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РФЭС + СХР (на ОН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ffffb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сигнал от атом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F </a:t>
              </a: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и 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2920" y="2743200"/>
              <a:ext cx="0" cy="685800"/>
            </a:xfrm>
            <a:prstGeom prst="line">
              <a:avLst/>
            </a:prstGeom>
            <a:ln w="25560">
              <a:solidFill>
                <a:srgbClr val="ffffd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14480" y="2743200"/>
              <a:ext cx="0" cy="685800"/>
            </a:xfrm>
            <a:prstGeom prst="line">
              <a:avLst/>
            </a:prstGeom>
            <a:ln w="25560">
              <a:solidFill>
                <a:srgbClr val="ffffd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48D-CE31-44C6-B58D-0445623AF3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594560" y="1143000"/>
            <a:ext cx="115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Объ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38960" y="1371600"/>
            <a:ext cx="743040" cy="0"/>
          </a:xfrm>
          <a:prstGeom prst="line">
            <a:avLst/>
          </a:prstGeom>
          <a:ln w="19080">
            <a:solidFill>
              <a:srgbClr val="ffffb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90720" y="2895480"/>
            <a:ext cx="1829880" cy="2109960"/>
            <a:chOff x="990720" y="2895480"/>
            <a:chExt cx="1829880" cy="2109960"/>
          </a:xfrm>
        </p:grpSpPr>
        <p:sp>
          <p:nvSpPr>
            <p:cNvPr id="472" name=""/>
            <p:cNvSpPr/>
            <p:nvPr/>
          </p:nvSpPr>
          <p:spPr>
            <a:xfrm>
              <a:off x="990720" y="4648320"/>
              <a:ext cx="990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5 часов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55600" y="2895480"/>
              <a:ext cx="825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1 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ча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63880" y="3124080"/>
              <a:ext cx="756720" cy="180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73160" y="3809880"/>
              <a:ext cx="990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3 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час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62080" y="4038480"/>
              <a:ext cx="75708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63880" y="4875120"/>
              <a:ext cx="756720" cy="180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467160" y="4800600"/>
            <a:ext cx="255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2040" y="2514600"/>
            <a:ext cx="24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32040" y="3429000"/>
            <a:ext cx="24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14840" y="4419720"/>
            <a:ext cx="24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4840" y="4495680"/>
            <a:ext cx="24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752480" y="228600"/>
            <a:ext cx="5974560" cy="533520"/>
            <a:chOff x="1752480" y="228600"/>
            <a:chExt cx="5974560" cy="533520"/>
          </a:xfrm>
        </p:grpSpPr>
        <p:sp>
          <p:nvSpPr>
            <p:cNvPr id="484" name=""/>
            <p:cNvSpPr/>
            <p:nvPr/>
          </p:nvSpPr>
          <p:spPr>
            <a:xfrm>
              <a:off x="1814040" y="228600"/>
              <a:ext cx="59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осстановление в токе водорода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при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8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0°С</a:t>
              </a:r>
              <a:r>
                <a:rPr b="0" lang="ru-RU" sz="24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52480" y="228600"/>
              <a:ext cx="587952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20840" y="990360"/>
            <a:ext cx="5035680" cy="726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8000" bIns="10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Мёссбауэровские спектры 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 Fe 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частиц </a:t>
            </a:r>
            <a:br>
              <a:rPr sz="2200"/>
            </a:b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на разных стадиях восстано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273720" y="2209680"/>
            <a:ext cx="3301560" cy="2795760"/>
            <a:chOff x="6273720" y="2209680"/>
            <a:chExt cx="3301560" cy="2795760"/>
          </a:xfrm>
        </p:grpSpPr>
        <p:sp>
          <p:nvSpPr>
            <p:cNvPr id="488" name=""/>
            <p:cNvSpPr/>
            <p:nvPr/>
          </p:nvSpPr>
          <p:spPr>
            <a:xfrm>
              <a:off x="6934320" y="2895480"/>
              <a:ext cx="25585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Fe-3%, Fe</a:t>
              </a:r>
              <a:r>
                <a:rPr b="0" lang="en-US" sz="2200" spc="-1" strike="noStrike" baseline="-25000">
                  <a:solidFill>
                    <a:srgbClr val="ffffbd"/>
                  </a:solidFill>
                  <a:latin typeface="Times New Roman"/>
                </a:rPr>
                <a:t>3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O</a:t>
              </a:r>
              <a:r>
                <a:rPr b="0" lang="en-US" sz="2200" spc="-1" strike="noStrike" baseline="-25000">
                  <a:solidFill>
                    <a:srgbClr val="ffffbd"/>
                  </a:solidFill>
                  <a:latin typeface="Times New Roman"/>
                </a:rPr>
                <a:t>4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-97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4320" y="3809880"/>
              <a:ext cx="26409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Fe-30%, Fe</a:t>
              </a:r>
              <a:r>
                <a:rPr b="0" lang="en-US" sz="2200" spc="-1" strike="noStrike" baseline="-25000">
                  <a:solidFill>
                    <a:srgbClr val="ffffbd"/>
                  </a:solidFill>
                  <a:latin typeface="Times New Roman"/>
                </a:rPr>
                <a:t>3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O</a:t>
              </a:r>
              <a:r>
                <a:rPr b="0" lang="en-US" sz="2200" spc="-1" strike="noStrike" baseline="-25000">
                  <a:solidFill>
                    <a:srgbClr val="ffffbd"/>
                  </a:solidFill>
                  <a:latin typeface="Times New Roman"/>
                </a:rPr>
                <a:t>4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-70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6400" y="2209680"/>
              <a:ext cx="2476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Исходный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 FeOO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34320" y="4648320"/>
              <a:ext cx="2640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Fe - 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100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73720" y="4875120"/>
              <a:ext cx="63108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18360" y="3122640"/>
              <a:ext cx="63072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73720" y="2438280"/>
              <a:ext cx="63108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73720" y="4037040"/>
              <a:ext cx="63108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3408480" y="1981080"/>
          <a:ext cx="2568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1981080"/>
                    <a:ext cx="2568600" cy="41148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535-F6B6-4B4C-86B6-0E6C6BCF81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4788000" y="1143000"/>
          <a:ext cx="46306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143000"/>
                    <a:ext cx="46306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0" name=""/>
          <p:cNvGrpSpPr/>
          <p:nvPr/>
        </p:nvGrpSpPr>
        <p:grpSpPr>
          <a:xfrm>
            <a:off x="1905120" y="228600"/>
            <a:ext cx="5976000" cy="533520"/>
            <a:chOff x="1905120" y="228600"/>
            <a:chExt cx="5976000" cy="533520"/>
          </a:xfrm>
        </p:grpSpPr>
        <p:sp>
          <p:nvSpPr>
            <p:cNvPr id="501" name=""/>
            <p:cNvSpPr/>
            <p:nvPr/>
          </p:nvSpPr>
          <p:spPr>
            <a:xfrm>
              <a:off x="1968480" y="228600"/>
              <a:ext cx="59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осстановление в токе водорода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при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8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0°С</a:t>
              </a:r>
              <a:r>
                <a:rPr b="0" lang="ru-RU" sz="24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05120" y="228600"/>
              <a:ext cx="596232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30120" y="1219320"/>
            <a:ext cx="379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Для Мессбауэровског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исследования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поверхност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были получе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280" y="2438280"/>
            <a:ext cx="3303360" cy="3944880"/>
            <a:chOff x="152280" y="2438280"/>
            <a:chExt cx="3303360" cy="3944880"/>
          </a:xfrm>
        </p:grpSpPr>
        <p:grpSp>
          <p:nvGrpSpPr>
            <p:cNvPr id="505" name=""/>
            <p:cNvGrpSpPr/>
            <p:nvPr/>
          </p:nvGrpSpPr>
          <p:grpSpPr>
            <a:xfrm>
              <a:off x="1199880" y="3352680"/>
              <a:ext cx="759960" cy="719280"/>
              <a:chOff x="1199880" y="3352680"/>
              <a:chExt cx="759960" cy="719280"/>
            </a:xfrm>
          </p:grpSpPr>
          <p:sp>
            <p:nvSpPr>
              <p:cNvPr id="506" name=""/>
              <p:cNvSpPr/>
              <p:nvPr/>
            </p:nvSpPr>
            <p:spPr>
              <a:xfrm>
                <a:off x="1199880" y="3352680"/>
                <a:ext cx="759960" cy="7192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33800" y="3467520"/>
                <a:ext cx="511560" cy="484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56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1564200" y="3008160"/>
              <a:ext cx="0" cy="381240"/>
            </a:xfrm>
            <a:prstGeom prst="line">
              <a:avLst/>
            </a:prstGeom>
            <a:ln w="22320">
              <a:solidFill>
                <a:srgbClr val="ffffd7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80160" y="2438280"/>
              <a:ext cx="564120" cy="533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56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63640" y="3048120"/>
              <a:ext cx="1692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d7"/>
                  </a:solidFill>
                  <a:latin typeface="Times New Roman"/>
                </a:rPr>
                <a:t>Слой </a:t>
              </a:r>
              <a:r>
                <a:rPr b="0" lang="ru-RU" sz="2000" spc="-1" strike="noStrike" baseline="30000">
                  <a:solidFill>
                    <a:srgbClr val="ffffd7"/>
                  </a:solidFill>
                  <a:latin typeface="Times New Roman"/>
                </a:rPr>
                <a:t>57</a:t>
              </a: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</a:rPr>
                <a:t>Fe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02720" y="4114800"/>
              <a:ext cx="0" cy="380880"/>
            </a:xfrm>
            <a:prstGeom prst="line">
              <a:avLst/>
            </a:prstGeom>
            <a:ln w="22320">
              <a:solidFill>
                <a:srgbClr val="ffffd7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2280" y="411480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ffffd7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</a:rPr>
                <a:t>, 380</a:t>
              </a: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  <a:ea typeface="Times New Roman"/>
                </a:rPr>
                <a:t>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1199880" y="4533840"/>
              <a:ext cx="759960" cy="719280"/>
              <a:chOff x="1199880" y="4533840"/>
              <a:chExt cx="759960" cy="719280"/>
            </a:xfrm>
          </p:grpSpPr>
          <p:sp>
            <p:nvSpPr>
              <p:cNvPr id="514" name=""/>
              <p:cNvSpPr/>
              <p:nvPr/>
            </p:nvSpPr>
            <p:spPr>
              <a:xfrm>
                <a:off x="1199880" y="4533840"/>
                <a:ext cx="759960" cy="7192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33800" y="4648680"/>
                <a:ext cx="511560" cy="484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56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1201320" y="5664240"/>
              <a:ext cx="760320" cy="718920"/>
              <a:chOff x="1201320" y="5664240"/>
              <a:chExt cx="760320" cy="718920"/>
            </a:xfrm>
          </p:grpSpPr>
          <p:sp>
            <p:nvSpPr>
              <p:cNvPr id="517" name=""/>
              <p:cNvSpPr/>
              <p:nvPr/>
            </p:nvSpPr>
            <p:spPr>
              <a:xfrm>
                <a:off x="1201320" y="5664240"/>
                <a:ext cx="760320" cy="718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35240" y="5779080"/>
                <a:ext cx="511920" cy="484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56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1602720" y="5257800"/>
              <a:ext cx="0" cy="380880"/>
            </a:xfrm>
            <a:prstGeom prst="line">
              <a:avLst/>
            </a:prstGeom>
            <a:ln w="22320">
              <a:solidFill>
                <a:srgbClr val="ffffd7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2920" y="5257800"/>
              <a:ext cx="104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</a:rPr>
                <a:t>H</a:t>
              </a:r>
              <a:r>
                <a:rPr b="0" lang="en-US" sz="2000" spc="-1" strike="noStrike" baseline="-25000">
                  <a:solidFill>
                    <a:srgbClr val="ffffd7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</a:rPr>
                <a:t>, 380</a:t>
              </a:r>
              <a:r>
                <a:rPr b="0" lang="en-US" sz="2000" spc="-1" strike="noStrike">
                  <a:solidFill>
                    <a:srgbClr val="ffffd7"/>
                  </a:solidFill>
                  <a:latin typeface="Times New Roman"/>
                  <a:ea typeface="Times New Roman"/>
                </a:rPr>
                <a:t>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870200" y="4761000"/>
            <a:ext cx="2031840" cy="1977840"/>
            <a:chOff x="1870200" y="4761000"/>
            <a:chExt cx="2031840" cy="1977840"/>
          </a:xfrm>
        </p:grpSpPr>
        <p:sp>
          <p:nvSpPr>
            <p:cNvPr id="522" name=""/>
            <p:cNvSpPr/>
            <p:nvPr/>
          </p:nvSpPr>
          <p:spPr>
            <a:xfrm>
              <a:off x="2286000" y="6361200"/>
              <a:ext cx="515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57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61960" y="4761000"/>
              <a:ext cx="1540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d7"/>
                  </a:solidFill>
                  <a:latin typeface="Times New Roman"/>
                </a:rPr>
                <a:t>Частично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d7"/>
                  </a:solidFill>
                  <a:latin typeface="Times New Roman"/>
                </a:rPr>
                <a:t>восстановл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5751360"/>
              <a:ext cx="15397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d7"/>
                  </a:solidFill>
                  <a:latin typeface="Times New Roman"/>
                </a:rPr>
                <a:t>полно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d7"/>
                  </a:solidFill>
                  <a:latin typeface="Times New Roman"/>
                </a:rPr>
                <a:t>восстановл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1870200" y="6231600"/>
              <a:ext cx="367920" cy="26064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C40-D917-41FF-869E-FF6A25F654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7320" y="1447920"/>
            <a:ext cx="9410760" cy="380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Структура поверхности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 Fe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частиц из Мессбауэровских спектро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752480" y="380880"/>
            <a:ext cx="5974200" cy="533520"/>
            <a:chOff x="1752480" y="380880"/>
            <a:chExt cx="5974200" cy="533520"/>
          </a:xfrm>
        </p:grpSpPr>
        <p:sp>
          <p:nvSpPr>
            <p:cNvPr id="528" name=""/>
            <p:cNvSpPr/>
            <p:nvPr/>
          </p:nvSpPr>
          <p:spPr>
            <a:xfrm>
              <a:off x="1814040" y="380880"/>
              <a:ext cx="59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осстановление в токе водорода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при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8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0°С</a:t>
              </a:r>
              <a:r>
                <a:rPr b="0" lang="ru-RU" sz="24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2480" y="380880"/>
              <a:ext cx="588672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990720" y="2362320"/>
            <a:ext cx="8093160" cy="2920320"/>
            <a:chOff x="990720" y="2362320"/>
            <a:chExt cx="8093160" cy="2920320"/>
          </a:xfrm>
        </p:grpSpPr>
        <p:sp>
          <p:nvSpPr>
            <p:cNvPr id="531" name=""/>
            <p:cNvSpPr/>
            <p:nvPr/>
          </p:nvSpPr>
          <p:spPr>
            <a:xfrm>
              <a:off x="990720" y="4724280"/>
              <a:ext cx="1402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Исходные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73160" y="3316320"/>
              <a:ext cx="1246680" cy="1143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69000" y="3497400"/>
              <a:ext cx="853200" cy="78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89600" y="3649680"/>
              <a:ext cx="7995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34520" y="3678120"/>
              <a:ext cx="67212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56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694160" y="2819520"/>
              <a:ext cx="1440" cy="57600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73160" y="2362320"/>
              <a:ext cx="12380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 baseline="30000">
                  <a:solidFill>
                    <a:srgbClr val="ffffff"/>
                  </a:solidFill>
                  <a:latin typeface="Times New Roman"/>
                </a:rPr>
                <a:t>57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FeOO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24120" y="3886200"/>
              <a:ext cx="873360" cy="144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24120" y="3352680"/>
              <a:ext cx="123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H</a:t>
              </a:r>
              <a:r>
                <a:rPr b="0" lang="en-US" sz="2200" spc="-1" strike="noStrike" baseline="-25000">
                  <a:solidFill>
                    <a:srgbClr val="ffffbd"/>
                  </a:solidFill>
                  <a:latin typeface="Times New Roman"/>
                </a:rPr>
                <a:t>2</a:t>
              </a:r>
              <a:r>
                <a:rPr b="0" lang="ru-RU" sz="2200" spc="-1" strike="noStrike" baseline="-25000">
                  <a:solidFill>
                    <a:srgbClr val="ffffbd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38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0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44960" y="2365200"/>
              <a:ext cx="1697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baseline="30000">
                  <a:solidFill>
                    <a:srgbClr val="ffffff"/>
                  </a:solidFill>
                  <a:latin typeface="Times New Roman"/>
                </a:rPr>
                <a:t>57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Fe+</a:t>
              </a:r>
              <a:r>
                <a:rPr b="0" lang="en-US" sz="2200" spc="-1" strike="noStrike" baseline="30000">
                  <a:solidFill>
                    <a:srgbClr val="ffffff"/>
                  </a:solidFill>
                  <a:latin typeface="Times New Roman"/>
                </a:rPr>
                <a:t>57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26040" y="3881520"/>
              <a:ext cx="87336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92640" y="3316320"/>
              <a:ext cx="1246680" cy="1143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88480" y="3497400"/>
              <a:ext cx="853200" cy="78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608720" y="3649680"/>
              <a:ext cx="7995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4000" y="3678120"/>
              <a:ext cx="67212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56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913280" y="2819520"/>
              <a:ext cx="0" cy="57600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42080" y="4725000"/>
              <a:ext cx="190512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 anchorCtr="1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Частичное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восстановление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178760" y="2362320"/>
              <a:ext cx="1905120" cy="2918520"/>
              <a:chOff x="7178760" y="2362320"/>
              <a:chExt cx="1905120" cy="2918520"/>
            </a:xfrm>
          </p:grpSpPr>
          <p:sp>
            <p:nvSpPr>
              <p:cNvPr id="549" name=""/>
              <p:cNvSpPr/>
              <p:nvPr/>
            </p:nvSpPr>
            <p:spPr>
              <a:xfrm>
                <a:off x="7758720" y="2362320"/>
                <a:ext cx="600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 baseline="30000">
                    <a:solidFill>
                      <a:srgbClr val="ffffff"/>
                    </a:solidFill>
                    <a:latin typeface="Times New Roman"/>
                  </a:rPr>
                  <a:t>57</a:t>
                </a: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F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28960" y="3316320"/>
                <a:ext cx="1246680" cy="1143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24800" y="3497400"/>
                <a:ext cx="853200" cy="781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745400" y="3649680"/>
                <a:ext cx="799560" cy="3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90320" y="3678480"/>
                <a:ext cx="67212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6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049960" y="2819160"/>
                <a:ext cx="0" cy="576360"/>
              </a:xfrm>
              <a:prstGeom prst="line">
                <a:avLst/>
              </a:prstGeom>
              <a:ln w="19080">
                <a:solidFill>
                  <a:srgbClr val="ffffbd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178760" y="4723200"/>
                <a:ext cx="1905120" cy="5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 anchorCtr="1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bd"/>
                    </a:solidFill>
                    <a:latin typeface="Times New Roman"/>
                  </a:rPr>
                  <a:t>Полное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bd"/>
                    </a:solidFill>
                    <a:latin typeface="Times New Roman"/>
                  </a:rPr>
                  <a:t>восстановление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5860800" y="3352680"/>
              <a:ext cx="123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H</a:t>
              </a:r>
              <a:r>
                <a:rPr b="0" lang="en-US" sz="2200" spc="-1" strike="noStrike" baseline="-25000">
                  <a:solidFill>
                    <a:srgbClr val="ffffbd"/>
                  </a:solidFill>
                  <a:latin typeface="Times New Roman"/>
                </a:rPr>
                <a:t>2</a:t>
              </a:r>
              <a:r>
                <a:rPr b="0" lang="ru-RU" sz="2200" spc="-1" strike="noStrike" baseline="-25000">
                  <a:solidFill>
                    <a:srgbClr val="ffffbd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38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0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B4E-8289-4424-9FA8-BF95B0736F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165240" y="2514600"/>
          <a:ext cx="4375080" cy="2502000"/>
        </p:xfrm>
        <a:graphic>
          <a:graphicData uri="http://schemas.openxmlformats.org/drawingml/2006/table">
            <a:tbl>
              <a:tblPr/>
              <a:tblGrid>
                <a:gridCol w="1114200"/>
                <a:gridCol w="982800"/>
                <a:gridCol w="1184400"/>
                <a:gridCol w="109368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.содержани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5778360" y="3657600"/>
            <a:ext cx="1568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92640" y="3352680"/>
            <a:ext cx="16700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75080" y="3276720"/>
            <a:ext cx="17337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38400" y="4495680"/>
            <a:ext cx="3136680" cy="5335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86080" y="990720"/>
            <a:ext cx="5838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РФЭС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данны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относительное содержание элементов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и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 O1s 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спект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70440" y="2133720"/>
            <a:ext cx="5035320" cy="5796000"/>
            <a:chOff x="4870440" y="2133720"/>
            <a:chExt cx="5035320" cy="5796000"/>
          </a:xfrm>
        </p:grpSpPr>
        <p:sp>
          <p:nvSpPr>
            <p:cNvPr id="564" name=""/>
            <p:cNvSpPr/>
            <p:nvPr/>
          </p:nvSpPr>
          <p:spPr>
            <a:xfrm>
              <a:off x="4870440" y="2209680"/>
              <a:ext cx="4705200" cy="4343400"/>
            </a:xfrm>
            <a:prstGeom prst="rect">
              <a:avLst/>
            </a:prstGeom>
            <a:solidFill>
              <a:srgbClr val="ffffd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5" name=""/>
            <p:cNvGraphicFramePr/>
            <p:nvPr/>
          </p:nvGraphicFramePr>
          <p:xfrm>
            <a:off x="5900760" y="2133720"/>
            <a:ext cx="4005000" cy="579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00760" y="2133720"/>
                      <a:ext cx="4005000" cy="57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7" name=""/>
            <p:cNvSpPr/>
            <p:nvPr/>
          </p:nvSpPr>
          <p:spPr>
            <a:xfrm>
              <a:off x="7429320" y="2362320"/>
              <a:ext cx="907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1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20040" y="3124080"/>
              <a:ext cx="1155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час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420040" y="4114800"/>
              <a:ext cx="1155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 час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502840" y="4952880"/>
              <a:ext cx="9903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ча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239880" y="3637080"/>
              <a:ext cx="1218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193080" y="4367520"/>
              <a:ext cx="131652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6232320" y="4539240"/>
              <a:ext cx="1320120" cy="84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38960" y="5943600"/>
              <a:ext cx="28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Энергия связи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902840" y="4343400"/>
              <a:ext cx="1238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 anchorCtr="1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43040" y="228600"/>
            <a:ext cx="8172000" cy="533520"/>
            <a:chOff x="743040" y="228600"/>
            <a:chExt cx="8172000" cy="533520"/>
          </a:xfrm>
        </p:grpSpPr>
        <p:sp>
          <p:nvSpPr>
            <p:cNvPr id="577" name=""/>
            <p:cNvSpPr/>
            <p:nvPr/>
          </p:nvSpPr>
          <p:spPr>
            <a:xfrm>
              <a:off x="1135800" y="228600"/>
              <a:ext cx="737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Высокотемпературное восстановление в токе водоро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3040" y="228600"/>
              <a:ext cx="817200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BD8-E61B-46CD-80C3-E74736569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769080" y="20574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35800" y="22860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Высокотемпературное восстановление в токе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3040" y="228600"/>
            <a:ext cx="8172360" cy="533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0120" y="1143000"/>
            <a:ext cx="8667360" cy="6800760"/>
            <a:chOff x="330120" y="1143000"/>
            <a:chExt cx="8667360" cy="6800760"/>
          </a:xfrm>
        </p:grpSpPr>
        <p:sp>
          <p:nvSpPr>
            <p:cNvPr id="583" name=""/>
            <p:cNvSpPr/>
            <p:nvPr/>
          </p:nvSpPr>
          <p:spPr>
            <a:xfrm>
              <a:off x="742680" y="2133720"/>
              <a:ext cx="8254800" cy="4419360"/>
            </a:xfrm>
            <a:prstGeom prst="rect">
              <a:avLst/>
            </a:prstGeom>
            <a:solidFill>
              <a:srgbClr val="ffffd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4720" y="2344680"/>
              <a:ext cx="715320" cy="27936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3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5" name=""/>
            <p:cNvGraphicFramePr/>
            <p:nvPr/>
          </p:nvGraphicFramePr>
          <p:xfrm>
            <a:off x="330120" y="1295280"/>
            <a:ext cx="6292440" cy="664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0120" y="1295280"/>
                      <a:ext cx="6292440" cy="664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7" name=""/>
            <p:cNvSpPr/>
            <p:nvPr/>
          </p:nvSpPr>
          <p:spPr>
            <a:xfrm>
              <a:off x="4375080" y="3886200"/>
              <a:ext cx="1906920" cy="42912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час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75080" y="2971800"/>
              <a:ext cx="1906920" cy="42912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часо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75080" y="4724280"/>
              <a:ext cx="1906920" cy="42912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ча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33760" y="5991120"/>
              <a:ext cx="3893400" cy="39888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Энергия связи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46880" y="2975040"/>
              <a:ext cx="478080" cy="420480"/>
            </a:xfrm>
            <a:prstGeom prst="ellipse">
              <a:avLst/>
            </a:prstGeom>
            <a:solidFill>
              <a:srgbClr val="ffffdf"/>
            </a:soli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1072800" y="3276720"/>
              <a:ext cx="1032840" cy="2018520"/>
              <a:chOff x="1072800" y="3276720"/>
              <a:chExt cx="1032840" cy="2018520"/>
            </a:xfrm>
          </p:grpSpPr>
          <p:sp>
            <p:nvSpPr>
              <p:cNvPr id="593" name=""/>
              <p:cNvSpPr/>
              <p:nvPr/>
            </p:nvSpPr>
            <p:spPr>
              <a:xfrm>
                <a:off x="1072800" y="3276720"/>
                <a:ext cx="1032840" cy="47520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072800" y="4048200"/>
                <a:ext cx="1032840" cy="47520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072800" y="4820040"/>
                <a:ext cx="1032840" cy="47520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96" name=""/>
            <p:cNvGraphicFramePr/>
            <p:nvPr/>
          </p:nvGraphicFramePr>
          <p:xfrm>
            <a:off x="5996520" y="2554200"/>
            <a:ext cx="2918160" cy="347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96520" y="2554200"/>
                      <a:ext cx="2918160" cy="347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8" name=""/>
            <p:cNvSpPr/>
            <p:nvPr/>
          </p:nvSpPr>
          <p:spPr>
            <a:xfrm>
              <a:off x="6933600" y="3276720"/>
              <a:ext cx="3078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1520" y="4191120"/>
              <a:ext cx="3175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1520" y="5029200"/>
              <a:ext cx="3175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52000" y="2344680"/>
              <a:ext cx="715320" cy="27936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2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28400" y="1143000"/>
              <a:ext cx="5365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РФЭС спектры </a:t>
              </a: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Fe 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частиц, полученных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на  различных стадиях восстановлени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1967760" y="4466880"/>
              <a:ext cx="822240" cy="4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993680" y="4146120"/>
              <a:ext cx="1099800" cy="24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2050560" y="3624120"/>
              <a:ext cx="822240" cy="4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1998000" y="3291840"/>
              <a:ext cx="1090080" cy="275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63520" y="5105520"/>
              <a:ext cx="1126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7797960" y="2997360"/>
            <a:ext cx="360360" cy="360360"/>
          </a:xfrm>
          <a:prstGeom prst="ellipse">
            <a:avLst/>
          </a:prstGeom>
          <a:noFill/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2F8-3B04-4236-BBD2-4581482E3C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071880" y="2286000"/>
            <a:ext cx="2235240" cy="2060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62320" y="2457360"/>
            <a:ext cx="1857240" cy="1710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11440" y="2679840"/>
            <a:ext cx="1359000" cy="12524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46520" y="3048120"/>
            <a:ext cx="8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28880" y="2276640"/>
            <a:ext cx="990360" cy="350640"/>
          </a:xfrm>
          <a:prstGeom prst="wedgeRectCallout">
            <a:avLst>
              <a:gd name="adj1" fmla="val 75800"/>
              <a:gd name="adj2" fmla="val 14818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ФЭ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11640" y="1736640"/>
            <a:ext cx="2443320" cy="701640"/>
          </a:xfrm>
          <a:prstGeom prst="wedgeRectCallout">
            <a:avLst>
              <a:gd name="adj1" fmla="val -70268"/>
              <a:gd name="adj2" fmla="val 830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ссбауэров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ктроскоп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22840" y="25495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0E6-461C-4A77-9512-4930E85C6D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5283360" y="5257800"/>
            <a:ext cx="437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bd"/>
                </a:solidFill>
                <a:latin typeface="Times New Roman"/>
              </a:rPr>
              <a:t>ЭО- электролитическое оса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d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М.А.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Плетнев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</a:rPr>
              <a:t>А.М.Дорфман и д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d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Защита металлов,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ffffbd"/>
                </a:solidFill>
                <a:uFillTx/>
                <a:latin typeface="Times New Roman"/>
                <a:ea typeface="Times New Roman"/>
              </a:rPr>
              <a:t>35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,  37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1999</a:t>
            </a:r>
            <a:r>
              <a:rPr b="0" lang="ru-RU" sz="1600" spc="-1" strike="noStrike">
                <a:solidFill>
                  <a:srgbClr val="ffffbd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d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bd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ffffbd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ffbd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ffffbd"/>
                </a:solidFill>
                <a:latin typeface="Times New Roman"/>
              </a:rPr>
              <a:t>38</a:t>
            </a:r>
            <a:r>
              <a:rPr b="0" lang="en-US" sz="1800" spc="-1" strike="noStrike">
                <a:solidFill>
                  <a:srgbClr val="ffffbd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º</a:t>
            </a:r>
            <a:r>
              <a:rPr b="0" lang="en-US" sz="1800" spc="-1" strike="noStrike">
                <a:solidFill>
                  <a:srgbClr val="ffffbd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bd"/>
                </a:solidFill>
                <a:latin typeface="Times New Roman"/>
              </a:rPr>
              <a:t>- восстановл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c9"/>
                </a:solidFill>
                <a:latin typeface="Times New Roman"/>
              </a:rPr>
              <a:t>в токе водор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9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ffffc9"/>
                </a:solidFill>
                <a:latin typeface="Times New Roman"/>
              </a:rPr>
              <a:t>при 380</a:t>
            </a:r>
            <a:r>
              <a:rPr b="0" lang="ru-RU" sz="1800" spc="-1" strike="noStrike">
                <a:solidFill>
                  <a:srgbClr val="ffffc9"/>
                </a:solidFill>
                <a:latin typeface="Times New Roman"/>
                <a:ea typeface="Times New Roman"/>
              </a:rPr>
              <a:t>º</a:t>
            </a:r>
            <a:r>
              <a:rPr b="0" lang="ru-RU" sz="1800" spc="-1" strike="noStrike">
                <a:solidFill>
                  <a:srgbClr val="ffffc9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47680" y="990720"/>
          <a:ext cx="4457520" cy="1676160"/>
        </p:xfrm>
        <a:graphic>
          <a:graphicData uri="http://schemas.openxmlformats.org/drawingml/2006/table">
            <a:tbl>
              <a:tblPr/>
              <a:tblGrid>
                <a:gridCol w="1860480"/>
                <a:gridCol w="879480"/>
                <a:gridCol w="938160"/>
                <a:gridCol w="779400"/>
              </a:tblGrid>
              <a:tr h="457920">
                <a:tc rowSpan="2">
                  <a:txBody>
                    <a:bodyPr lIns="19080" rIns="19080" tIns="0" bIns="1908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 gridSpan="3">
                  <a:txBody>
                    <a:bodyPr lIns="19080" rIns="19080" tIns="0" bIns="1908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.содержани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0" bIns="19080" anchor="ctr" anchorCtr="1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ctr" anchorCtr="1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ctr" anchorCtr="1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293760"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331200"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293760"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III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е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</a:tbl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0" y="2819520"/>
            <a:ext cx="5121000" cy="3698640"/>
            <a:chOff x="0" y="2819520"/>
            <a:chExt cx="5121000" cy="3698640"/>
          </a:xfrm>
        </p:grpSpPr>
        <p:sp>
          <p:nvSpPr>
            <p:cNvPr id="619" name=""/>
            <p:cNvSpPr/>
            <p:nvPr/>
          </p:nvSpPr>
          <p:spPr>
            <a:xfrm>
              <a:off x="170280" y="2936880"/>
              <a:ext cx="4539600" cy="3581280"/>
            </a:xfrm>
            <a:prstGeom prst="rect">
              <a:avLst/>
            </a:prstGeom>
            <a:solidFill>
              <a:srgbClr val="ffffd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0" name=""/>
            <p:cNvGraphicFramePr/>
            <p:nvPr/>
          </p:nvGraphicFramePr>
          <p:xfrm>
            <a:off x="2481480" y="2819520"/>
            <a:ext cx="2639520" cy="369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1480" y="2819520"/>
                      <a:ext cx="2639520" cy="369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2" name=""/>
            <p:cNvSpPr/>
            <p:nvPr/>
          </p:nvSpPr>
          <p:spPr>
            <a:xfrm>
              <a:off x="3372120" y="5397480"/>
              <a:ext cx="19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38440" y="5187960"/>
              <a:ext cx="1485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(III)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леа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73200" y="6137280"/>
              <a:ext cx="195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Энергия связи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0" y="2860560"/>
              <a:ext cx="2883600" cy="3562560"/>
              <a:chOff x="0" y="2860560"/>
              <a:chExt cx="2883600" cy="3562560"/>
            </a:xfrm>
          </p:grpSpPr>
          <p:graphicFrame>
            <p:nvGraphicFramePr>
              <p:cNvPr id="626" name=""/>
              <p:cNvGraphicFramePr/>
              <p:nvPr/>
            </p:nvGraphicFramePr>
            <p:xfrm>
              <a:off x="0" y="2860560"/>
              <a:ext cx="2756520" cy="3562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2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860560"/>
                        <a:ext cx="2756520" cy="356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8" name=""/>
              <p:cNvSpPr/>
              <p:nvPr/>
            </p:nvSpPr>
            <p:spPr>
              <a:xfrm>
                <a:off x="483120" y="3797280"/>
                <a:ext cx="199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16240" y="3511440"/>
                <a:ext cx="3729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Э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898280" y="4419720"/>
                <a:ext cx="985320" cy="33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380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º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78200" y="2936880"/>
                <a:ext cx="59508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1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389760" y="2936880"/>
              <a:ext cx="594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1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273720" y="533520"/>
            <a:ext cx="305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26040" y="228600"/>
            <a:ext cx="2889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К-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коррозионные поте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V-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скорость корроз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в 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0,85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 вес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%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растворе 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6207120"/>
            <a:ext cx="10296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4120" y="5369040"/>
            <a:ext cx="102960" cy="9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861160" y="1295280"/>
            <a:ext cx="3218760" cy="3657600"/>
            <a:chOff x="5861160" y="1295280"/>
            <a:chExt cx="3218760" cy="3657600"/>
          </a:xfrm>
        </p:grpSpPr>
        <p:sp>
          <p:nvSpPr>
            <p:cNvPr id="638" name=""/>
            <p:cNvSpPr/>
            <p:nvPr/>
          </p:nvSpPr>
          <p:spPr>
            <a:xfrm>
              <a:off x="5861160" y="1295280"/>
              <a:ext cx="3182760" cy="3657600"/>
            </a:xfrm>
            <a:prstGeom prst="rect">
              <a:avLst/>
            </a:prstGeom>
            <a:solidFill>
              <a:srgbClr val="ffffd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5928840" y="1295280"/>
              <a:ext cx="3151080" cy="3621960"/>
              <a:chOff x="5928840" y="1295280"/>
              <a:chExt cx="3151080" cy="3621960"/>
            </a:xfrm>
          </p:grpSpPr>
          <p:graphicFrame>
            <p:nvGraphicFramePr>
              <p:cNvPr id="640" name=""/>
              <p:cNvGraphicFramePr/>
              <p:nvPr/>
            </p:nvGraphicFramePr>
            <p:xfrm>
              <a:off x="6163920" y="1295280"/>
              <a:ext cx="2916000" cy="3586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4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163920" y="1295280"/>
                        <a:ext cx="2916000" cy="3586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2" name=""/>
              <p:cNvSpPr/>
              <p:nvPr/>
            </p:nvSpPr>
            <p:spPr>
              <a:xfrm>
                <a:off x="7603920" y="4626000"/>
                <a:ext cx="545760" cy="29124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Т, 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12360" y="1491120"/>
                <a:ext cx="605880" cy="32652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K, 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928840" y="3058560"/>
                <a:ext cx="833400" cy="32652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, %/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5" name=""/>
          <p:cNvSpPr/>
          <p:nvPr/>
        </p:nvSpPr>
        <p:spPr>
          <a:xfrm>
            <a:off x="1486080" y="380880"/>
            <a:ext cx="206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РФЭС дан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986-DBBD-4A27-B8E3-6598C5925B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907920" y="1828800"/>
          <a:ext cx="8089920" cy="3108240"/>
        </p:xfrm>
        <a:graphic>
          <a:graphicData uri="http://schemas.openxmlformats.org/drawingml/2006/table">
            <a:tbl>
              <a:tblPr/>
              <a:tblGrid>
                <a:gridCol w="1733760"/>
                <a:gridCol w="1238040"/>
                <a:gridCol w="1403640"/>
                <a:gridCol w="2063520"/>
                <a:gridCol w="1650960"/>
              </a:tblGrid>
              <a:tr h="1137240">
                <a:tc>
                  <a:txBody>
                    <a:bodyPr lIns="19080" rIns="19080" tIns="19080" bIns="763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м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Г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</a:tr>
              <a:tr h="656640"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еин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</a:tr>
              <a:tr h="723240"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ксам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диа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</a:tr>
              <a:tr h="591120"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рилам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  <a:tc>
                  <a:txBody>
                    <a:bodyPr lIns="19080" rIns="19080" tIns="19080" bIns="7632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7"/>
                    </a:solidFill>
                  </a:tcPr>
                </a:tc>
              </a:tr>
            </a:tbl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2133720" y="228600"/>
            <a:ext cx="5976000" cy="533520"/>
            <a:chOff x="2133720" y="228600"/>
            <a:chExt cx="5976000" cy="533520"/>
          </a:xfrm>
        </p:grpSpPr>
        <p:sp>
          <p:nvSpPr>
            <p:cNvPr id="648" name=""/>
            <p:cNvSpPr/>
            <p:nvPr/>
          </p:nvSpPr>
          <p:spPr>
            <a:xfrm>
              <a:off x="2197080" y="228600"/>
              <a:ext cx="59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осстановление в токе водорода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при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8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0°С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33720" y="228600"/>
              <a:ext cx="596232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034280" y="963720"/>
            <a:ext cx="69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Свойства частиц </a:t>
            </a:r>
            <a:r>
              <a:rPr b="0" lang="en-US" sz="2000" spc="-1" strike="noStrike">
                <a:solidFill>
                  <a:srgbClr val="ffffd7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е, полученных высокотемпературным</a:t>
            </a:r>
            <a:br>
              <a:rPr sz="2000"/>
            </a:b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восстановлением и стабилизированных различными агент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20840" y="5030640"/>
            <a:ext cx="83376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7"/>
                </a:solidFill>
                <a:latin typeface="Times New Roman"/>
              </a:rPr>
              <a:t>S</a:t>
            </a:r>
            <a:r>
              <a:rPr b="0" lang="ru-RU" sz="2200" spc="-1" strike="noStrike">
                <a:solidFill>
                  <a:srgbClr val="ffffd7"/>
                </a:solidFill>
                <a:latin typeface="Times New Roman"/>
              </a:rPr>
              <a:t> – удельная поверх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7"/>
                </a:solidFill>
                <a:latin typeface="Times New Roman"/>
              </a:rPr>
              <a:t>H – </a:t>
            </a:r>
            <a:r>
              <a:rPr b="0" lang="ru-RU" sz="2200" spc="-1" strike="noStrike">
                <a:solidFill>
                  <a:srgbClr val="ffffd7"/>
                </a:solidFill>
                <a:latin typeface="Times New Roman"/>
              </a:rPr>
              <a:t>коэрцитивная си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d7"/>
                </a:solidFill>
                <a:latin typeface="Times New Roman"/>
              </a:rPr>
              <a:t>М</a:t>
            </a:r>
            <a:r>
              <a:rPr b="0" lang="en-US" sz="2400" spc="-1" strike="noStrike" baseline="-25000">
                <a:solidFill>
                  <a:srgbClr val="ffffd7"/>
                </a:solidFill>
                <a:latin typeface="Times New Roman"/>
              </a:rPr>
              <a:t>s</a:t>
            </a:r>
            <a:r>
              <a:rPr b="0" lang="ru-RU" sz="2400" spc="-1" strike="noStrike" baseline="-25000">
                <a:solidFill>
                  <a:srgbClr val="ffffd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d7"/>
                </a:solidFill>
                <a:latin typeface="Times New Roman"/>
              </a:rPr>
              <a:t>–</a:t>
            </a:r>
            <a:r>
              <a:rPr b="0" lang="ru-RU" sz="2400" spc="-1" strike="noStrike" baseline="-25000">
                <a:solidFill>
                  <a:srgbClr val="ffffd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d7"/>
                </a:solidFill>
                <a:latin typeface="Times New Roman"/>
              </a:rPr>
              <a:t>намагниченность насы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d7"/>
                </a:solidFill>
                <a:latin typeface="Times New Roman"/>
              </a:rPr>
              <a:t>Т – температура начала окисления (данные ДТА анали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A4C-DF77-41B7-B6CA-01FE71325C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ЦЕЛ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d"/>
                </a:solidFill>
                <a:latin typeface="Times New Roman"/>
              </a:rPr>
              <a:t>Установление закономерностей формирования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межфазных областей</a:t>
            </a:r>
            <a:r>
              <a:rPr b="0" lang="en-US" sz="2800" spc="-1" strike="noStrike">
                <a:solidFill>
                  <a:srgbClr val="ffffbd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стабилизирующих</a:t>
            </a:r>
            <a:r>
              <a:rPr b="0" lang="en-US" sz="28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защитных</a:t>
            </a:r>
            <a:r>
              <a:rPr b="0" lang="en-US" sz="2800" spc="-1" strike="noStrike">
                <a:solidFill>
                  <a:srgbClr val="ffffbd"/>
                </a:solidFill>
                <a:latin typeface="Times New Roman"/>
              </a:rPr>
              <a:t> слоев при адсорбции ненасыщенных поверхностно- активных веществ (ПАВ)  и азотсодержащих органических соединений  на поверхности частиц железа, полученных различными методами, а также закономерностей формирования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модифицирующих</a:t>
            </a:r>
            <a:r>
              <a:rPr b="0" lang="en-US" sz="2800" spc="-1" strike="noStrike">
                <a:solidFill>
                  <a:srgbClr val="ffffbd"/>
                </a:solidFill>
                <a:latin typeface="Times New Roman"/>
              </a:rPr>
              <a:t> слоев органических  азот- и кремнийсодержащих соединений на поверхности стабилизированных частиц желез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C3F-66BF-46B6-9657-30BF71E9D7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495360" y="1828800"/>
            <a:ext cx="8915400" cy="4648320"/>
          </a:xfrm>
          <a:prstGeom prst="rect">
            <a:avLst/>
          </a:prstGeom>
          <a:solidFill>
            <a:srgbClr val="ffff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0840" y="10663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РФЭС спектры 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частиц со стабилизирующими</a:t>
            </a:r>
            <a:br>
              <a:rPr sz="2000"/>
            </a:b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слоями на основе гексаметилендиамина и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акрилами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828800" y="228600"/>
            <a:ext cx="6039000" cy="533520"/>
            <a:chOff x="1828800" y="228600"/>
            <a:chExt cx="6039000" cy="533520"/>
          </a:xfrm>
        </p:grpSpPr>
        <p:sp>
          <p:nvSpPr>
            <p:cNvPr id="655" name=""/>
            <p:cNvSpPr/>
            <p:nvPr/>
          </p:nvSpPr>
          <p:spPr>
            <a:xfrm>
              <a:off x="1892160" y="228600"/>
              <a:ext cx="59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осстановление в токе водорода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при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8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0°С</a:t>
              </a:r>
              <a:r>
                <a:rPr b="0" lang="ru-RU" sz="24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28800" y="228600"/>
              <a:ext cx="603900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43040" y="1905120"/>
            <a:ext cx="8915040" cy="4389480"/>
            <a:chOff x="743040" y="1905120"/>
            <a:chExt cx="8915040" cy="4389480"/>
          </a:xfrm>
        </p:grpSpPr>
        <p:grpSp>
          <p:nvGrpSpPr>
            <p:cNvPr id="658" name=""/>
            <p:cNvGrpSpPr/>
            <p:nvPr/>
          </p:nvGrpSpPr>
          <p:grpSpPr>
            <a:xfrm>
              <a:off x="4497120" y="2286000"/>
              <a:ext cx="694440" cy="685800"/>
              <a:chOff x="4497120" y="2286000"/>
              <a:chExt cx="694440" cy="685800"/>
            </a:xfrm>
          </p:grpSpPr>
          <p:sp>
            <p:nvSpPr>
              <p:cNvPr id="659" name=""/>
              <p:cNvSpPr/>
              <p:nvPr/>
            </p:nvSpPr>
            <p:spPr>
              <a:xfrm>
                <a:off x="4497120" y="2286000"/>
                <a:ext cx="694440" cy="685800"/>
              </a:xfrm>
              <a:custGeom>
                <a:avLst/>
                <a:gdLst>
                  <a:gd name="textAreaLeft" fmla="*/ 158400 w 694440"/>
                  <a:gd name="textAreaRight" fmla="*/ 536040 w 694440"/>
                  <a:gd name="textAreaTop" fmla="*/ 156600 h 685800"/>
                  <a:gd name="textAreaBottom" fmla="*/ 5292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51560" y="2438280"/>
                <a:ext cx="385200" cy="38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5879880" y="2743200"/>
            <a:ext cx="3778200" cy="18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79880" y="2743200"/>
                      <a:ext cx="377820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123960" y="2743200"/>
            <a:ext cx="3534120" cy="286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23960" y="2743200"/>
                      <a:ext cx="3534120" cy="286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5" name=""/>
            <p:cNvSpPr/>
            <p:nvPr/>
          </p:nvSpPr>
          <p:spPr>
            <a:xfrm>
              <a:off x="1816200" y="1905120"/>
              <a:ext cx="577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1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59800" y="1905120"/>
              <a:ext cx="660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1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66720" y="2965320"/>
              <a:ext cx="1389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рилами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4574520" y="3505320"/>
              <a:ext cx="694080" cy="685800"/>
              <a:chOff x="4574520" y="3505320"/>
              <a:chExt cx="694080" cy="685800"/>
            </a:xfrm>
          </p:grpSpPr>
          <p:sp>
            <p:nvSpPr>
              <p:cNvPr id="669" name=""/>
              <p:cNvSpPr/>
              <p:nvPr/>
            </p:nvSpPr>
            <p:spPr>
              <a:xfrm>
                <a:off x="4574520" y="3505320"/>
                <a:ext cx="694080" cy="685800"/>
              </a:xfrm>
              <a:custGeom>
                <a:avLst/>
                <a:gdLst>
                  <a:gd name="textAreaLeft" fmla="*/ 158400 w 694080"/>
                  <a:gd name="textAreaRight" fmla="*/ 535680 w 694080"/>
                  <a:gd name="textAreaTop" fmla="*/ 156600 h 685800"/>
                  <a:gd name="textAreaBottom" fmla="*/ 5292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28960" y="3657600"/>
                <a:ext cx="385200" cy="38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71" name="" descr=""/>
            <p:cNvPicPr/>
            <p:nvPr/>
          </p:nvPicPr>
          <p:blipFill>
            <a:blip r:embed="rId5"/>
            <a:stretch/>
          </p:blipFill>
          <p:spPr>
            <a:xfrm>
              <a:off x="4419720" y="4495680"/>
              <a:ext cx="108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4189320" y="5410080"/>
              <a:ext cx="1774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леиновая к-т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79720" y="4114800"/>
              <a:ext cx="239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Гексаметилендиами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62160" y="5943600"/>
              <a:ext cx="23112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Энергия связи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5" name=""/>
            <p:cNvGraphicFramePr/>
            <p:nvPr/>
          </p:nvGraphicFramePr>
          <p:xfrm>
            <a:off x="743040" y="1981080"/>
            <a:ext cx="3456720" cy="4216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43040" y="1981080"/>
                      <a:ext cx="3456720" cy="421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7" name=""/>
          <p:cNvSpPr/>
          <p:nvPr/>
        </p:nvSpPr>
        <p:spPr>
          <a:xfrm>
            <a:off x="6851520" y="4952880"/>
            <a:ext cx="239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ксаметилендиа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82000" y="5257800"/>
            <a:ext cx="1668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H2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182000" y="5675400"/>
            <a:ext cx="1388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лам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16760" y="594360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CH(O)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69080" y="4952880"/>
            <a:ext cx="2476440" cy="1371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A31-69D8-4C15-B3FC-8B84DD1033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660240" y="2133720"/>
            <a:ext cx="8750520" cy="4419360"/>
          </a:xfrm>
          <a:prstGeom prst="rect">
            <a:avLst/>
          </a:prstGeom>
          <a:solidFill>
            <a:srgbClr val="ffff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03280" y="12949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РФЭС спектры 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частиц со стабилизирующими</a:t>
            </a:r>
            <a:br>
              <a:rPr sz="2000"/>
            </a:b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слоями на основе гексаметилендиамина и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акрлами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68520" y="2286000"/>
            <a:ext cx="74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2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21400" y="2286000"/>
            <a:ext cx="74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32040" y="6095880"/>
            <a:ext cx="2311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 связ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846000" y="2286000"/>
          <a:ext cx="2486160" cy="39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286000"/>
                    <a:ext cx="2486160" cy="39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5778360" y="2514600"/>
          <a:ext cx="2694240" cy="33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8360" y="2514600"/>
                    <a:ext cx="269424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1" name=""/>
          <p:cNvGrpSpPr/>
          <p:nvPr/>
        </p:nvGrpSpPr>
        <p:grpSpPr>
          <a:xfrm>
            <a:off x="3432240" y="2743200"/>
            <a:ext cx="2063160" cy="3055680"/>
            <a:chOff x="3432240" y="2743200"/>
            <a:chExt cx="2063160" cy="3055680"/>
          </a:xfrm>
        </p:grpSpPr>
        <p:grpSp>
          <p:nvGrpSpPr>
            <p:cNvPr id="692" name=""/>
            <p:cNvGrpSpPr/>
            <p:nvPr/>
          </p:nvGrpSpPr>
          <p:grpSpPr>
            <a:xfrm>
              <a:off x="4082040" y="2743200"/>
              <a:ext cx="598320" cy="583920"/>
              <a:chOff x="4082040" y="2743200"/>
              <a:chExt cx="598320" cy="583920"/>
            </a:xfrm>
          </p:grpSpPr>
          <p:sp>
            <p:nvSpPr>
              <p:cNvPr id="693" name=""/>
              <p:cNvSpPr/>
              <p:nvPr/>
            </p:nvSpPr>
            <p:spPr>
              <a:xfrm>
                <a:off x="4082040" y="2743200"/>
                <a:ext cx="598320" cy="583920"/>
              </a:xfrm>
              <a:custGeom>
                <a:avLst/>
                <a:gdLst>
                  <a:gd name="textAreaLeft" fmla="*/ 136440 w 598320"/>
                  <a:gd name="textAreaRight" fmla="*/ 461880 w 598320"/>
                  <a:gd name="textAreaTop" fmla="*/ 133200 h 583920"/>
                  <a:gd name="textAreaBottom" fmla="*/ 450720 h 58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214880" y="2872800"/>
                <a:ext cx="332280" cy="32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3815640" y="3262320"/>
              <a:ext cx="11980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рилами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4147560" y="3846240"/>
              <a:ext cx="599760" cy="584280"/>
              <a:chOff x="4147560" y="3846240"/>
              <a:chExt cx="599760" cy="584280"/>
            </a:xfrm>
          </p:grpSpPr>
          <p:sp>
            <p:nvSpPr>
              <p:cNvPr id="697" name=""/>
              <p:cNvSpPr/>
              <p:nvPr/>
            </p:nvSpPr>
            <p:spPr>
              <a:xfrm>
                <a:off x="4147560" y="3846240"/>
                <a:ext cx="599760" cy="584280"/>
              </a:xfrm>
              <a:custGeom>
                <a:avLst/>
                <a:gdLst>
                  <a:gd name="textAreaLeft" fmla="*/ 136800 w 599760"/>
                  <a:gd name="textAreaRight" fmla="*/ 462960 w 599760"/>
                  <a:gd name="textAreaTop" fmla="*/ 133200 h 584280"/>
                  <a:gd name="textAreaBottom" fmla="*/ 451080 h 58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280400" y="3976200"/>
                <a:ext cx="333000" cy="32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9" name="" descr=""/>
            <p:cNvPicPr/>
            <p:nvPr/>
          </p:nvPicPr>
          <p:blipFill>
            <a:blip r:embed="rId5"/>
            <a:stretch/>
          </p:blipFill>
          <p:spPr>
            <a:xfrm>
              <a:off x="4015080" y="4689360"/>
              <a:ext cx="93168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776040" y="5532480"/>
              <a:ext cx="15303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леиновая к-т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32240" y="4365360"/>
              <a:ext cx="206316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Гексаметилендиами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769080" y="426708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769080" y="358128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70680" y="3200400"/>
            <a:ext cx="12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37600" y="28954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337600" y="4876920"/>
            <a:ext cx="82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37600" y="4038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337600" y="3352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977160" y="510552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696000" y="5163120"/>
            <a:ext cx="154980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057400" y="380880"/>
            <a:ext cx="5974200" cy="533520"/>
            <a:chOff x="2057400" y="380880"/>
            <a:chExt cx="5974200" cy="533520"/>
          </a:xfrm>
        </p:grpSpPr>
        <p:sp>
          <p:nvSpPr>
            <p:cNvPr id="712" name=""/>
            <p:cNvSpPr/>
            <p:nvPr/>
          </p:nvSpPr>
          <p:spPr>
            <a:xfrm>
              <a:off x="2118960" y="380880"/>
              <a:ext cx="59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осстановление в токе водорода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при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8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0°С</a:t>
              </a:r>
              <a:r>
                <a:rPr b="0" lang="ru-RU" sz="24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57400" y="380880"/>
              <a:ext cx="588672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BBD-2D4A-481F-9A03-12A7E58F25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72800" y="1142640"/>
            <a:ext cx="7512120" cy="7621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Коррозионные потери и скорость коррозии</a:t>
            </a:r>
            <a:br>
              <a:rPr sz="2400"/>
            </a:b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после выдержки образцов 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0,85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вес. 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%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растворе 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NaCl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77760" y="2514600"/>
            <a:ext cx="6256080" cy="2895480"/>
            <a:chOff x="77760" y="2514600"/>
            <a:chExt cx="6256080" cy="2895480"/>
          </a:xfrm>
        </p:grpSpPr>
        <p:sp>
          <p:nvSpPr>
            <p:cNvPr id="716" name=""/>
            <p:cNvSpPr/>
            <p:nvPr/>
          </p:nvSpPr>
          <p:spPr>
            <a:xfrm>
              <a:off x="77760" y="2514600"/>
              <a:ext cx="6190560" cy="2895480"/>
            </a:xfrm>
            <a:prstGeom prst="rect">
              <a:avLst/>
            </a:prstGeom>
            <a:solidFill>
              <a:srgbClr val="ffffd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37040" y="4952880"/>
              <a:ext cx="115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,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ча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3893760" y="2519280"/>
            <a:ext cx="2440080" cy="270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93760" y="2519280"/>
                      <a:ext cx="2440080" cy="270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165240" y="2743200"/>
              <a:ext cx="660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,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101040" y="2741760"/>
              <a:ext cx="907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, %/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2" name=""/>
            <p:cNvGraphicFramePr/>
            <p:nvPr/>
          </p:nvGraphicFramePr>
          <p:xfrm>
            <a:off x="702000" y="2514600"/>
            <a:ext cx="2682360" cy="270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2000" y="2514600"/>
                      <a:ext cx="2682360" cy="270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"/>
          <p:cNvSpPr/>
          <p:nvPr/>
        </p:nvSpPr>
        <p:spPr>
          <a:xfrm>
            <a:off x="6602400" y="2549520"/>
            <a:ext cx="1652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602400" y="3006720"/>
            <a:ext cx="1652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02400" y="3463920"/>
            <a:ext cx="193680" cy="17928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935760" y="292896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Гексаметилендиами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15320" y="3346560"/>
            <a:ext cx="164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крилам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15320" y="3921120"/>
            <a:ext cx="20653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Олеиновая к-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электрли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осаждение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0080" y="236232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Олеиновая к-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600960" y="3886200"/>
            <a:ext cx="16488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7759800" y="4876920"/>
            <a:ext cx="1440" cy="457200"/>
          </a:xfrm>
          <a:prstGeom prst="line">
            <a:avLst/>
          </a:prstGeom>
          <a:ln w="19080">
            <a:solidFill>
              <a:srgbClr val="ffff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6160" y="5334120"/>
            <a:ext cx="242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Стабилизирующ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сло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981080" y="380880"/>
            <a:ext cx="5974200" cy="533520"/>
            <a:chOff x="1981080" y="380880"/>
            <a:chExt cx="5974200" cy="533520"/>
          </a:xfrm>
        </p:grpSpPr>
        <p:sp>
          <p:nvSpPr>
            <p:cNvPr id="735" name=""/>
            <p:cNvSpPr/>
            <p:nvPr/>
          </p:nvSpPr>
          <p:spPr>
            <a:xfrm>
              <a:off x="2042640" y="380880"/>
              <a:ext cx="59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осстановление в токе водорода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при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8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0°С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81080" y="380880"/>
              <a:ext cx="5886720" cy="5335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78C-E460-4906-9A30-BB978329C4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6273720" y="1219320"/>
            <a:ext cx="313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Исходная молекула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МВС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228600" y="1430280"/>
            <a:ext cx="704520" cy="622440"/>
            <a:chOff x="228600" y="1430280"/>
            <a:chExt cx="704520" cy="622440"/>
          </a:xfrm>
        </p:grpSpPr>
        <p:grpSp>
          <p:nvGrpSpPr>
            <p:cNvPr id="739" name=""/>
            <p:cNvGrpSpPr/>
            <p:nvPr/>
          </p:nvGrpSpPr>
          <p:grpSpPr>
            <a:xfrm>
              <a:off x="447120" y="1614600"/>
              <a:ext cx="299880" cy="277560"/>
              <a:chOff x="447120" y="1614600"/>
              <a:chExt cx="299880" cy="277560"/>
            </a:xfrm>
          </p:grpSpPr>
          <p:sp>
            <p:nvSpPr>
              <p:cNvPr id="740" name=""/>
              <p:cNvSpPr/>
              <p:nvPr/>
            </p:nvSpPr>
            <p:spPr>
              <a:xfrm>
                <a:off x="447120" y="1614600"/>
                <a:ext cx="299880" cy="277560"/>
              </a:xfrm>
              <a:prstGeom prst="ellipse">
                <a:avLst/>
              </a:prstGeom>
              <a:solidFill>
                <a:srgbClr val="ff66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10120" y="1662120"/>
                <a:ext cx="174600" cy="198360"/>
              </a:xfrm>
              <a:prstGeom prst="rect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ffffff"/>
                    </a:solidFill>
                    <a:latin typeface="Times New Roman"/>
                  </a:rPr>
                  <a:t>F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22720" y="1430280"/>
              <a:ext cx="64800" cy="1954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1" y="10"/>
                  </a:lnTo>
                  <a:lnTo>
                    <a:pt x="9" y="14"/>
                  </a:lnTo>
                  <a:lnTo>
                    <a:pt x="1" y="19"/>
                  </a:lnTo>
                  <a:lnTo>
                    <a:pt x="10" y="23"/>
                  </a:lnTo>
                  <a:lnTo>
                    <a:pt x="2" y="27"/>
                  </a:lnTo>
                  <a:lnTo>
                    <a:pt x="10" y="31"/>
                  </a:lnTo>
                  <a:lnTo>
                    <a:pt x="6" y="33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2520" y="1862280"/>
              <a:ext cx="101160" cy="1839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4" y="0"/>
                  </a:moveTo>
                  <a:lnTo>
                    <a:pt x="0" y="2"/>
                  </a:lnTo>
                  <a:lnTo>
                    <a:pt x="9" y="4"/>
                  </a:lnTo>
                  <a:lnTo>
                    <a:pt x="2" y="10"/>
                  </a:lnTo>
                  <a:lnTo>
                    <a:pt x="12" y="12"/>
                  </a:lnTo>
                  <a:lnTo>
                    <a:pt x="5" y="18"/>
                  </a:lnTo>
                  <a:lnTo>
                    <a:pt x="14" y="20"/>
                  </a:lnTo>
                  <a:lnTo>
                    <a:pt x="7" y="26"/>
                  </a:lnTo>
                  <a:lnTo>
                    <a:pt x="16" y="28"/>
                  </a:lnTo>
                  <a:lnTo>
                    <a:pt x="13" y="3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70680" y="1460520"/>
              <a:ext cx="101160" cy="17784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5" y="0"/>
                  </a:moveTo>
                  <a:lnTo>
                    <a:pt x="10" y="0"/>
                  </a:lnTo>
                  <a:lnTo>
                    <a:pt x="16" y="7"/>
                  </a:lnTo>
                  <a:lnTo>
                    <a:pt x="6" y="7"/>
                  </a:lnTo>
                  <a:lnTo>
                    <a:pt x="13" y="15"/>
                  </a:lnTo>
                  <a:lnTo>
                    <a:pt x="3" y="15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30"/>
                  </a:lnTo>
                  <a:lnTo>
                    <a:pt x="1" y="30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2520" y="1862280"/>
              <a:ext cx="101160" cy="1839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4" y="0"/>
                  </a:moveTo>
                  <a:lnTo>
                    <a:pt x="0" y="2"/>
                  </a:lnTo>
                  <a:lnTo>
                    <a:pt x="9" y="4"/>
                  </a:lnTo>
                  <a:lnTo>
                    <a:pt x="2" y="10"/>
                  </a:lnTo>
                  <a:lnTo>
                    <a:pt x="12" y="12"/>
                  </a:lnTo>
                  <a:lnTo>
                    <a:pt x="5" y="18"/>
                  </a:lnTo>
                  <a:lnTo>
                    <a:pt x="14" y="20"/>
                  </a:lnTo>
                  <a:lnTo>
                    <a:pt x="7" y="26"/>
                  </a:lnTo>
                  <a:lnTo>
                    <a:pt x="16" y="28"/>
                  </a:lnTo>
                  <a:lnTo>
                    <a:pt x="13" y="3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2520" y="1862280"/>
              <a:ext cx="101160" cy="1839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4" y="0"/>
                  </a:moveTo>
                  <a:lnTo>
                    <a:pt x="0" y="2"/>
                  </a:lnTo>
                  <a:lnTo>
                    <a:pt x="9" y="4"/>
                  </a:lnTo>
                  <a:lnTo>
                    <a:pt x="2" y="10"/>
                  </a:lnTo>
                  <a:lnTo>
                    <a:pt x="12" y="12"/>
                  </a:lnTo>
                  <a:lnTo>
                    <a:pt x="5" y="18"/>
                  </a:lnTo>
                  <a:lnTo>
                    <a:pt x="14" y="20"/>
                  </a:lnTo>
                  <a:lnTo>
                    <a:pt x="7" y="26"/>
                  </a:lnTo>
                  <a:lnTo>
                    <a:pt x="16" y="28"/>
                  </a:lnTo>
                  <a:lnTo>
                    <a:pt x="13" y="31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040" y="1809720"/>
              <a:ext cx="199080" cy="13644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1" y="0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6" y="9"/>
                  </a:lnTo>
                  <a:lnTo>
                    <a:pt x="13" y="5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18" y="18"/>
                  </a:lnTo>
                  <a:lnTo>
                    <a:pt x="25" y="14"/>
                  </a:lnTo>
                  <a:lnTo>
                    <a:pt x="24" y="22"/>
                  </a:lnTo>
                  <a:lnTo>
                    <a:pt x="31" y="18"/>
                  </a:lnTo>
                  <a:lnTo>
                    <a:pt x="30" y="23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4040" y="1608120"/>
              <a:ext cx="185400" cy="1238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3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8" y="4"/>
                  </a:lnTo>
                  <a:lnTo>
                    <a:pt x="18" y="14"/>
                  </a:lnTo>
                  <a:lnTo>
                    <a:pt x="10" y="8"/>
                  </a:lnTo>
                  <a:lnTo>
                    <a:pt x="11" y="18"/>
                  </a:lnTo>
                  <a:lnTo>
                    <a:pt x="3" y="11"/>
                  </a:lnTo>
                  <a:lnTo>
                    <a:pt x="3" y="21"/>
                  </a:lnTo>
                  <a:lnTo>
                    <a:pt x="0" y="18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8600" y="1685880"/>
              <a:ext cx="204480" cy="8244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2"/>
                  </a:moveTo>
                  <a:lnTo>
                    <a:pt x="1" y="7"/>
                  </a:lnTo>
                  <a:lnTo>
                    <a:pt x="7" y="0"/>
                  </a:lnTo>
                  <a:lnTo>
                    <a:pt x="9" y="9"/>
                  </a:lnTo>
                  <a:lnTo>
                    <a:pt x="15" y="2"/>
                  </a:lnTo>
                  <a:lnTo>
                    <a:pt x="17" y="12"/>
                  </a:lnTo>
                  <a:lnTo>
                    <a:pt x="23" y="5"/>
                  </a:lnTo>
                  <a:lnTo>
                    <a:pt x="25" y="14"/>
                  </a:lnTo>
                  <a:lnTo>
                    <a:pt x="31" y="7"/>
                  </a:lnTo>
                  <a:lnTo>
                    <a:pt x="32" y="12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6920" y="1833480"/>
              <a:ext cx="198000" cy="117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0" y="17"/>
                  </a:moveTo>
                  <a:lnTo>
                    <a:pt x="4" y="20"/>
                  </a:lnTo>
                  <a:lnTo>
                    <a:pt x="4" y="10"/>
                  </a:lnTo>
                  <a:lnTo>
                    <a:pt x="12" y="16"/>
                  </a:lnTo>
                  <a:lnTo>
                    <a:pt x="12" y="7"/>
                  </a:lnTo>
                  <a:lnTo>
                    <a:pt x="19" y="13"/>
                  </a:lnTo>
                  <a:lnTo>
                    <a:pt x="19" y="3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31" y="3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4920" y="1868400"/>
              <a:ext cx="95760" cy="184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9" y="1"/>
                  </a:lnTo>
                  <a:lnTo>
                    <a:pt x="15" y="7"/>
                  </a:lnTo>
                  <a:lnTo>
                    <a:pt x="6" y="9"/>
                  </a:lnTo>
                  <a:lnTo>
                    <a:pt x="13" y="15"/>
                  </a:lnTo>
                  <a:lnTo>
                    <a:pt x="3" y="16"/>
                  </a:lnTo>
                  <a:lnTo>
                    <a:pt x="10" y="22"/>
                  </a:lnTo>
                  <a:lnTo>
                    <a:pt x="0" y="24"/>
                  </a:lnTo>
                  <a:lnTo>
                    <a:pt x="7" y="30"/>
                  </a:lnTo>
                  <a:lnTo>
                    <a:pt x="2" y="31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840" y="1542960"/>
              <a:ext cx="171720" cy="1191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0"/>
                  </a:moveTo>
                  <a:lnTo>
                    <a:pt x="0" y="4"/>
                  </a:lnTo>
                  <a:lnTo>
                    <a:pt x="7" y="1"/>
                  </a:lnTo>
                  <a:lnTo>
                    <a:pt x="6" y="9"/>
                  </a:lnTo>
                  <a:lnTo>
                    <a:pt x="14" y="6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0" y="19"/>
                  </a:lnTo>
                  <a:lnTo>
                    <a:pt x="27" y="15"/>
                  </a:lnTo>
                  <a:lnTo>
                    <a:pt x="27" y="20"/>
                  </a:lnTo>
                </a:path>
              </a:pathLst>
            </a:custGeom>
            <a:noFill/>
            <a:ln w="648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907920" y="1295280"/>
            <a:ext cx="2476440" cy="954360"/>
            <a:chOff x="907920" y="1295280"/>
            <a:chExt cx="2476440" cy="954360"/>
          </a:xfrm>
        </p:grpSpPr>
        <p:sp>
          <p:nvSpPr>
            <p:cNvPr id="754" name=""/>
            <p:cNvSpPr/>
            <p:nvPr/>
          </p:nvSpPr>
          <p:spPr>
            <a:xfrm>
              <a:off x="990360" y="1828800"/>
              <a:ext cx="140328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7920" y="1295280"/>
              <a:ext cx="1651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обработ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в парах  МВ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59240" y="1447920"/>
              <a:ext cx="825120" cy="801720"/>
            </a:xfrm>
            <a:prstGeom prst="ellipse">
              <a:avLst/>
            </a:prstGeom>
            <a:solidFill>
              <a:srgbClr val="00ccff"/>
            </a:solidFill>
            <a:ln w="158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19360" y="1523880"/>
              <a:ext cx="704880" cy="65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1"/>
            <a:stretch/>
          </p:blipFill>
          <p:spPr>
            <a:xfrm>
              <a:off x="2595240" y="1523880"/>
              <a:ext cx="742680" cy="6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9" name=""/>
          <p:cNvGrpSpPr/>
          <p:nvPr/>
        </p:nvGrpSpPr>
        <p:grpSpPr>
          <a:xfrm>
            <a:off x="3467160" y="1295280"/>
            <a:ext cx="2228040" cy="954360"/>
            <a:chOff x="3467160" y="1295280"/>
            <a:chExt cx="2228040" cy="954360"/>
          </a:xfrm>
        </p:grpSpPr>
        <p:sp>
          <p:nvSpPr>
            <p:cNvPr id="760" name=""/>
            <p:cNvSpPr/>
            <p:nvPr/>
          </p:nvSpPr>
          <p:spPr>
            <a:xfrm>
              <a:off x="3467160" y="1828800"/>
              <a:ext cx="132588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67160" y="1295280"/>
              <a:ext cx="130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У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облуч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4870080" y="1447920"/>
              <a:ext cx="825120" cy="801720"/>
              <a:chOff x="4870080" y="1447920"/>
              <a:chExt cx="825120" cy="801720"/>
            </a:xfrm>
          </p:grpSpPr>
          <p:sp>
            <p:nvSpPr>
              <p:cNvPr id="763" name=""/>
              <p:cNvSpPr/>
              <p:nvPr/>
            </p:nvSpPr>
            <p:spPr>
              <a:xfrm>
                <a:off x="4870080" y="1447920"/>
                <a:ext cx="825120" cy="801720"/>
              </a:xfrm>
              <a:prstGeom prst="ellipse">
                <a:avLst/>
              </a:prstGeom>
              <a:solidFill>
                <a:srgbClr val="00ccff"/>
              </a:solidFill>
              <a:ln w="158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30200" y="1523880"/>
                <a:ext cx="704880" cy="65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07880" y="1523880"/>
                <a:ext cx="742680" cy="66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6" name=""/>
          <p:cNvGrpSpPr/>
          <p:nvPr/>
        </p:nvGrpSpPr>
        <p:grpSpPr>
          <a:xfrm>
            <a:off x="2146320" y="2286000"/>
            <a:ext cx="3879360" cy="914400"/>
            <a:chOff x="2146320" y="2286000"/>
            <a:chExt cx="3879360" cy="914400"/>
          </a:xfrm>
        </p:grpSpPr>
        <p:sp>
          <p:nvSpPr>
            <p:cNvPr id="767" name=""/>
            <p:cNvSpPr/>
            <p:nvPr/>
          </p:nvSpPr>
          <p:spPr>
            <a:xfrm>
              <a:off x="2971800" y="2286000"/>
              <a:ext cx="0" cy="380880"/>
            </a:xfrm>
            <a:prstGeom prst="line">
              <a:avLst/>
            </a:prstGeom>
            <a:ln w="1584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46320" y="2666880"/>
              <a:ext cx="156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bd"/>
                  </a:solidFill>
                  <a:latin typeface="Times New Roman"/>
                </a:rPr>
                <a:t>СХ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bd"/>
                  </a:solidFill>
                  <a:latin typeface="Times New Roman"/>
                </a:rPr>
                <a:t>бром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57520" y="2666880"/>
              <a:ext cx="156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bd"/>
                  </a:solidFill>
                  <a:latin typeface="Times New Roman"/>
                </a:rPr>
                <a:t>СХ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bd"/>
                  </a:solidFill>
                  <a:latin typeface="Times New Roman"/>
                </a:rPr>
                <a:t>бром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283000" y="2286000"/>
              <a:ext cx="0" cy="380880"/>
            </a:xfrm>
            <a:prstGeom prst="line">
              <a:avLst/>
            </a:prstGeom>
            <a:ln w="1584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816200" y="152280"/>
            <a:ext cx="4952520" cy="762120"/>
            <a:chOff x="1816200" y="152280"/>
            <a:chExt cx="4952520" cy="762120"/>
          </a:xfrm>
        </p:grpSpPr>
        <p:sp>
          <p:nvSpPr>
            <p:cNvPr id="772" name=""/>
            <p:cNvSpPr/>
            <p:nvPr/>
          </p:nvSpPr>
          <p:spPr>
            <a:xfrm>
              <a:off x="2246760" y="152280"/>
              <a:ext cx="437940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Модифицирующие слои на основе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метилвилдихлорсилана</a:t>
              </a: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 (</a:t>
              </a: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МВС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16200" y="152280"/>
              <a:ext cx="4952520" cy="76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4" name=""/>
          <p:cNvGraphicFramePr/>
          <p:nvPr/>
        </p:nvGraphicFramePr>
        <p:xfrm>
          <a:off x="1320840" y="3733920"/>
          <a:ext cx="6191280" cy="2889000"/>
        </p:xfrm>
        <a:graphic>
          <a:graphicData uri="http://schemas.openxmlformats.org/drawingml/2006/table">
            <a:tbl>
              <a:tblPr/>
              <a:tblGrid>
                <a:gridCol w="1888920"/>
                <a:gridCol w="819360"/>
                <a:gridCol w="774720"/>
                <a:gridCol w="696960"/>
                <a:gridCol w="695160"/>
                <a:gridCol w="696960"/>
                <a:gridCol w="619200"/>
              </a:tblGrid>
              <a:tr h="61596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о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ов, ат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7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6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3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</a:tbl>
          </a:graphicData>
        </a:graphic>
      </p:graphicFrame>
      <p:grpSp>
        <p:nvGrpSpPr>
          <p:cNvPr id="775" name=""/>
          <p:cNvGrpSpPr/>
          <p:nvPr/>
        </p:nvGrpSpPr>
        <p:grpSpPr>
          <a:xfrm>
            <a:off x="1320840" y="4800600"/>
            <a:ext cx="2011680" cy="1803240"/>
            <a:chOff x="1320840" y="4800600"/>
            <a:chExt cx="2011680" cy="1803240"/>
          </a:xfrm>
        </p:grpSpPr>
        <p:grpSp>
          <p:nvGrpSpPr>
            <p:cNvPr id="776" name=""/>
            <p:cNvGrpSpPr/>
            <p:nvPr/>
          </p:nvGrpSpPr>
          <p:grpSpPr>
            <a:xfrm>
              <a:off x="1485720" y="4800600"/>
              <a:ext cx="1255320" cy="431640"/>
              <a:chOff x="1485720" y="4800600"/>
              <a:chExt cx="1255320" cy="43164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1485720" y="4800600"/>
                <a:ext cx="412560" cy="431640"/>
                <a:chOff x="1485720" y="4800600"/>
                <a:chExt cx="412560" cy="431640"/>
              </a:xfrm>
            </p:grpSpPr>
            <p:pic>
              <p:nvPicPr>
                <p:cNvPr id="77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85720" y="4800600"/>
                  <a:ext cx="41256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33320" y="4958280"/>
                  <a:ext cx="12996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80" name=""/>
              <p:cNvSpPr/>
              <p:nvPr/>
            </p:nvSpPr>
            <p:spPr>
              <a:xfrm>
                <a:off x="1898280" y="4838400"/>
                <a:ext cx="8427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МВ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1485720" y="5257800"/>
              <a:ext cx="1449720" cy="431640"/>
              <a:chOff x="1485720" y="5257800"/>
              <a:chExt cx="1449720" cy="43164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1485720" y="5257800"/>
                <a:ext cx="484920" cy="431640"/>
                <a:chOff x="1485720" y="5257800"/>
                <a:chExt cx="484920" cy="431640"/>
              </a:xfrm>
            </p:grpSpPr>
            <p:pic>
              <p:nvPicPr>
                <p:cNvPr id="78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85720" y="5257800"/>
                  <a:ext cx="48492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59240" y="5415480"/>
                  <a:ext cx="15264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85" name=""/>
              <p:cNvSpPr/>
              <p:nvPr/>
            </p:nvSpPr>
            <p:spPr>
              <a:xfrm>
                <a:off x="1945080" y="5313240"/>
                <a:ext cx="99036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+МВС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B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1320840" y="6172200"/>
              <a:ext cx="2011680" cy="431640"/>
              <a:chOff x="1320840" y="6172200"/>
              <a:chExt cx="2011680" cy="43164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1320840" y="6172200"/>
                <a:ext cx="537480" cy="431640"/>
                <a:chOff x="1320840" y="6172200"/>
                <a:chExt cx="537480" cy="431640"/>
              </a:xfrm>
            </p:grpSpPr>
            <p:pic>
              <p:nvPicPr>
                <p:cNvPr id="78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20840" y="6172200"/>
                  <a:ext cx="53748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13080" y="6329880"/>
                  <a:ext cx="16920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90" name=""/>
              <p:cNvSpPr/>
              <p:nvPr/>
            </p:nvSpPr>
            <p:spPr>
              <a:xfrm>
                <a:off x="1829520" y="6227640"/>
                <a:ext cx="1503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+МВ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УФ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B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1402920" y="5715000"/>
              <a:ext cx="1816200" cy="431640"/>
              <a:chOff x="1402920" y="5715000"/>
              <a:chExt cx="1816200" cy="43164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402920" y="5715000"/>
                <a:ext cx="484920" cy="431640"/>
                <a:chOff x="1402920" y="5715000"/>
                <a:chExt cx="484920" cy="431640"/>
              </a:xfrm>
            </p:grpSpPr>
            <p:pic>
              <p:nvPicPr>
                <p:cNvPr id="79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402920" y="5715000"/>
                  <a:ext cx="48492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576440" y="5872680"/>
                  <a:ext cx="15264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95" name=""/>
              <p:cNvSpPr/>
              <p:nvPr/>
            </p:nvSpPr>
            <p:spPr>
              <a:xfrm>
                <a:off x="1862280" y="5770440"/>
                <a:ext cx="135684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+МВ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У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6" name=""/>
          <p:cNvGrpSpPr/>
          <p:nvPr/>
        </p:nvGrpSpPr>
        <p:grpSpPr>
          <a:xfrm>
            <a:off x="6044400" y="1663560"/>
            <a:ext cx="3613320" cy="405720"/>
            <a:chOff x="6044400" y="1663560"/>
            <a:chExt cx="3613320" cy="405720"/>
          </a:xfrm>
        </p:grpSpPr>
        <p:sp>
          <p:nvSpPr>
            <p:cNvPr id="797" name=""/>
            <p:cNvSpPr/>
            <p:nvPr/>
          </p:nvSpPr>
          <p:spPr>
            <a:xfrm>
              <a:off x="8502480" y="16765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Cl:Si=</a:t>
              </a:r>
              <a:r>
                <a:rPr b="0" lang="en-US" sz="2000" spc="-1" strike="noStrike">
                  <a:solidFill>
                    <a:srgbClr val="ff9327"/>
                  </a:solidFill>
                  <a:latin typeface="Times New Roman"/>
                </a:rPr>
                <a:t>2: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46720" y="1866960"/>
              <a:ext cx="330120" cy="0"/>
            </a:xfrm>
            <a:prstGeom prst="line">
              <a:avLst/>
            </a:prstGeom>
            <a:ln w="1584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44400" y="1663560"/>
              <a:ext cx="202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CH</a:t>
              </a:r>
              <a:r>
                <a:rPr b="0" lang="en-US" sz="1800" spc="-1" strike="noStrike" baseline="-25000">
                  <a:solidFill>
                    <a:srgbClr val="ffffbd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=CHSi(CH</a:t>
              </a:r>
              <a:r>
                <a:rPr b="0" lang="en-US" sz="1800" spc="-1" strike="noStrike" baseline="-25000">
                  <a:solidFill>
                    <a:srgbClr val="ffffbd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)Cl</a:t>
              </a:r>
              <a:r>
                <a:rPr b="0" lang="en-US" sz="1800" spc="-1" strike="noStrike" baseline="-25000">
                  <a:solidFill>
                    <a:srgbClr val="ffffb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3219480" y="3276720"/>
            <a:ext cx="19987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РФЭС д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356520" y="2400480"/>
            <a:ext cx="2723760" cy="333360"/>
            <a:chOff x="6356520" y="2400480"/>
            <a:chExt cx="2723760" cy="333360"/>
          </a:xfrm>
        </p:grpSpPr>
        <p:sp>
          <p:nvSpPr>
            <p:cNvPr id="802" name=""/>
            <p:cNvSpPr/>
            <p:nvPr/>
          </p:nvSpPr>
          <p:spPr>
            <a:xfrm>
              <a:off x="6686640" y="2400480"/>
              <a:ext cx="84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+МВ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30840" y="2590920"/>
              <a:ext cx="33012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925040" y="2403360"/>
              <a:ext cx="1155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Cl:Si</a:t>
              </a:r>
              <a:r>
                <a:rPr b="0" lang="en-US" sz="2000" spc="-1" strike="noStrike">
                  <a:solidFill>
                    <a:srgbClr val="ffffbd"/>
                  </a:solidFill>
                  <a:latin typeface="Symbol"/>
                  <a:ea typeface="Symbol"/>
                </a:rPr>
                <a:t></a:t>
              </a:r>
              <a:r>
                <a:rPr b="0" lang="en-US" sz="2000" spc="-1" strike="noStrike">
                  <a:solidFill>
                    <a:srgbClr val="ff9327"/>
                  </a:solidFill>
                  <a:latin typeface="Times New Roman"/>
                </a:rPr>
                <a:t>1: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6356520" y="2438280"/>
              <a:ext cx="329760" cy="295560"/>
              <a:chOff x="6356520" y="2438280"/>
              <a:chExt cx="329760" cy="295560"/>
            </a:xfrm>
          </p:grpSpPr>
          <p:sp>
            <p:nvSpPr>
              <p:cNvPr id="806" name=""/>
              <p:cNvSpPr/>
              <p:nvPr/>
            </p:nvSpPr>
            <p:spPr>
              <a:xfrm>
                <a:off x="6458760" y="2525760"/>
                <a:ext cx="140760" cy="131760"/>
              </a:xfrm>
              <a:prstGeom prst="ellipse">
                <a:avLst/>
              </a:prstGeom>
              <a:solidFill>
                <a:srgbClr val="ff66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494040" y="2438280"/>
                <a:ext cx="30600" cy="9252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1" y="10"/>
                    </a:lnTo>
                    <a:lnTo>
                      <a:pt x="9" y="14"/>
                    </a:lnTo>
                    <a:lnTo>
                      <a:pt x="1" y="19"/>
                    </a:lnTo>
                    <a:lnTo>
                      <a:pt x="10" y="23"/>
                    </a:lnTo>
                    <a:lnTo>
                      <a:pt x="2" y="27"/>
                    </a:lnTo>
                    <a:lnTo>
                      <a:pt x="10" y="31"/>
                    </a:lnTo>
                    <a:lnTo>
                      <a:pt x="6" y="33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545520" y="2643120"/>
                <a:ext cx="47160" cy="8748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4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2" y="10"/>
                    </a:lnTo>
                    <a:lnTo>
                      <a:pt x="12" y="12"/>
                    </a:lnTo>
                    <a:lnTo>
                      <a:pt x="5" y="18"/>
                    </a:lnTo>
                    <a:lnTo>
                      <a:pt x="14" y="20"/>
                    </a:lnTo>
                    <a:lnTo>
                      <a:pt x="7" y="26"/>
                    </a:lnTo>
                    <a:lnTo>
                      <a:pt x="16" y="28"/>
                    </a:lnTo>
                    <a:lnTo>
                      <a:pt x="13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563160" y="2452320"/>
                <a:ext cx="47160" cy="8424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15" y="0"/>
                    </a:moveTo>
                    <a:lnTo>
                      <a:pt x="10" y="0"/>
                    </a:lnTo>
                    <a:lnTo>
                      <a:pt x="16" y="7"/>
                    </a:lnTo>
                    <a:lnTo>
                      <a:pt x="6" y="7"/>
                    </a:lnTo>
                    <a:lnTo>
                      <a:pt x="13" y="15"/>
                    </a:lnTo>
                    <a:lnTo>
                      <a:pt x="3" y="15"/>
                    </a:lnTo>
                    <a:lnTo>
                      <a:pt x="9" y="23"/>
                    </a:lnTo>
                    <a:lnTo>
                      <a:pt x="0" y="22"/>
                    </a:lnTo>
                    <a:lnTo>
                      <a:pt x="6" y="30"/>
                    </a:lnTo>
                    <a:lnTo>
                      <a:pt x="1" y="30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45520" y="2643120"/>
                <a:ext cx="47160" cy="8748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4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2" y="10"/>
                    </a:lnTo>
                    <a:lnTo>
                      <a:pt x="12" y="12"/>
                    </a:lnTo>
                    <a:lnTo>
                      <a:pt x="5" y="18"/>
                    </a:lnTo>
                    <a:lnTo>
                      <a:pt x="14" y="20"/>
                    </a:lnTo>
                    <a:lnTo>
                      <a:pt x="7" y="26"/>
                    </a:lnTo>
                    <a:lnTo>
                      <a:pt x="16" y="28"/>
                    </a:lnTo>
                    <a:lnTo>
                      <a:pt x="13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545520" y="2643120"/>
                <a:ext cx="47160" cy="8748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4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2" y="10"/>
                    </a:lnTo>
                    <a:lnTo>
                      <a:pt x="12" y="12"/>
                    </a:lnTo>
                    <a:lnTo>
                      <a:pt x="5" y="18"/>
                    </a:lnTo>
                    <a:lnTo>
                      <a:pt x="14" y="20"/>
                    </a:lnTo>
                    <a:lnTo>
                      <a:pt x="7" y="26"/>
                    </a:lnTo>
                    <a:lnTo>
                      <a:pt x="16" y="28"/>
                    </a:lnTo>
                    <a:lnTo>
                      <a:pt x="13" y="31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93040" y="2618280"/>
                <a:ext cx="93240" cy="6480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1" y="0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6" y="9"/>
                    </a:lnTo>
                    <a:lnTo>
                      <a:pt x="13" y="5"/>
                    </a:lnTo>
                    <a:lnTo>
                      <a:pt x="12" y="13"/>
                    </a:lnTo>
                    <a:lnTo>
                      <a:pt x="19" y="9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4" y="22"/>
                    </a:lnTo>
                    <a:lnTo>
                      <a:pt x="31" y="18"/>
                    </a:lnTo>
                    <a:lnTo>
                      <a:pt x="30" y="23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93040" y="2522520"/>
                <a:ext cx="87120" cy="5868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9" y="3"/>
                    </a:moveTo>
                    <a:lnTo>
                      <a:pt x="25" y="0"/>
                    </a:lnTo>
                    <a:lnTo>
                      <a:pt x="25" y="10"/>
                    </a:lnTo>
                    <a:lnTo>
                      <a:pt x="18" y="4"/>
                    </a:lnTo>
                    <a:lnTo>
                      <a:pt x="18" y="14"/>
                    </a:lnTo>
                    <a:lnTo>
                      <a:pt x="10" y="8"/>
                    </a:lnTo>
                    <a:lnTo>
                      <a:pt x="11" y="18"/>
                    </a:lnTo>
                    <a:lnTo>
                      <a:pt x="3" y="11"/>
                    </a:lnTo>
                    <a:lnTo>
                      <a:pt x="3" y="21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356520" y="2559600"/>
                <a:ext cx="95760" cy="38880"/>
              </a:xfrm>
              <a:custGeom>
                <a:avLst/>
                <a:gdLst/>
                <a:ahLst/>
                <a:rect l="l" t="t" r="r" b="b"/>
                <a:pathLst>
                  <a:path w="32" h="14">
                    <a:moveTo>
                      <a:pt x="0" y="2"/>
                    </a:moveTo>
                    <a:lnTo>
                      <a:pt x="1" y="7"/>
                    </a:lnTo>
                    <a:lnTo>
                      <a:pt x="7" y="0"/>
                    </a:lnTo>
                    <a:lnTo>
                      <a:pt x="9" y="9"/>
                    </a:lnTo>
                    <a:lnTo>
                      <a:pt x="15" y="2"/>
                    </a:lnTo>
                    <a:lnTo>
                      <a:pt x="17" y="12"/>
                    </a:lnTo>
                    <a:lnTo>
                      <a:pt x="23" y="5"/>
                    </a:lnTo>
                    <a:lnTo>
                      <a:pt x="25" y="14"/>
                    </a:lnTo>
                    <a:lnTo>
                      <a:pt x="31" y="7"/>
                    </a:lnTo>
                    <a:lnTo>
                      <a:pt x="32" y="12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383880" y="2629800"/>
                <a:ext cx="92520" cy="5544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0" y="17"/>
                    </a:moveTo>
                    <a:lnTo>
                      <a:pt x="4" y="20"/>
                    </a:lnTo>
                    <a:lnTo>
                      <a:pt x="4" y="10"/>
                    </a:lnTo>
                    <a:lnTo>
                      <a:pt x="12" y="16"/>
                    </a:lnTo>
                    <a:lnTo>
                      <a:pt x="12" y="7"/>
                    </a:lnTo>
                    <a:lnTo>
                      <a:pt x="19" y="13"/>
                    </a:lnTo>
                    <a:lnTo>
                      <a:pt x="19" y="3"/>
                    </a:lnTo>
                    <a:lnTo>
                      <a:pt x="27" y="9"/>
                    </a:lnTo>
                    <a:lnTo>
                      <a:pt x="27" y="0"/>
                    </a:lnTo>
                    <a:lnTo>
                      <a:pt x="31" y="3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76400" y="2646360"/>
                <a:ext cx="45000" cy="874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4" y="0"/>
                    </a:moveTo>
                    <a:lnTo>
                      <a:pt x="9" y="1"/>
                    </a:lnTo>
                    <a:lnTo>
                      <a:pt x="15" y="7"/>
                    </a:lnTo>
                    <a:lnTo>
                      <a:pt x="6" y="9"/>
                    </a:lnTo>
                    <a:lnTo>
                      <a:pt x="13" y="15"/>
                    </a:lnTo>
                    <a:lnTo>
                      <a:pt x="3" y="16"/>
                    </a:lnTo>
                    <a:lnTo>
                      <a:pt x="10" y="22"/>
                    </a:lnTo>
                    <a:lnTo>
                      <a:pt x="0" y="24"/>
                    </a:lnTo>
                    <a:lnTo>
                      <a:pt x="7" y="30"/>
                    </a:lnTo>
                    <a:lnTo>
                      <a:pt x="2" y="31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395760" y="2491560"/>
                <a:ext cx="80280" cy="56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0"/>
                    </a:moveTo>
                    <a:lnTo>
                      <a:pt x="0" y="4"/>
                    </a:lnTo>
                    <a:lnTo>
                      <a:pt x="7" y="1"/>
                    </a:lnTo>
                    <a:lnTo>
                      <a:pt x="6" y="9"/>
                    </a:lnTo>
                    <a:lnTo>
                      <a:pt x="14" y="6"/>
                    </a:lnTo>
                    <a:lnTo>
                      <a:pt x="13" y="14"/>
                    </a:lnTo>
                    <a:lnTo>
                      <a:pt x="21" y="11"/>
                    </a:lnTo>
                    <a:lnTo>
                      <a:pt x="20" y="19"/>
                    </a:lnTo>
                    <a:lnTo>
                      <a:pt x="27" y="15"/>
                    </a:lnTo>
                    <a:lnTo>
                      <a:pt x="27" y="20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28B-0E6C-4E67-8979-4639245542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7478640" y="2666880"/>
            <a:ext cx="2427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f"/>
                </a:solidFill>
                <a:latin typeface="Times New Roman"/>
              </a:rPr>
              <a:t>Хемосорбир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f"/>
                </a:solidFill>
                <a:latin typeface="Times New Roman"/>
              </a:rPr>
              <a:t>подимериз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f"/>
                </a:solidFill>
                <a:latin typeface="Times New Roman"/>
              </a:rPr>
              <a:t>слой МВ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12920" y="1219320"/>
            <a:ext cx="2147400" cy="2243160"/>
            <a:chOff x="412920" y="1219320"/>
            <a:chExt cx="2147400" cy="2243160"/>
          </a:xfrm>
        </p:grpSpPr>
        <p:sp>
          <p:nvSpPr>
            <p:cNvPr id="820" name=""/>
            <p:cNvSpPr/>
            <p:nvPr/>
          </p:nvSpPr>
          <p:spPr>
            <a:xfrm>
              <a:off x="412920" y="1981440"/>
              <a:ext cx="2147400" cy="1481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2920" y="1219320"/>
              <a:ext cx="2147400" cy="836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2920" y="1889280"/>
              <a:ext cx="2147400" cy="241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55600" y="2133720"/>
              <a:ext cx="56520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7800" y="2895840"/>
              <a:ext cx="1836720" cy="3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билизирующ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л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207080" y="2248200"/>
              <a:ext cx="185040" cy="553680"/>
              <a:chOff x="1207080" y="2248200"/>
              <a:chExt cx="185040" cy="553680"/>
            </a:xfrm>
          </p:grpSpPr>
          <p:sp>
            <p:nvSpPr>
              <p:cNvPr id="826" name=""/>
              <p:cNvSpPr/>
              <p:nvPr/>
            </p:nvSpPr>
            <p:spPr>
              <a:xfrm>
                <a:off x="1226160" y="2248200"/>
                <a:ext cx="14148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7080" y="2281680"/>
                <a:ext cx="18504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8" name=""/>
            <p:cNvGrpSpPr/>
            <p:nvPr/>
          </p:nvGrpSpPr>
          <p:grpSpPr>
            <a:xfrm>
              <a:off x="1441080" y="2248200"/>
              <a:ext cx="186840" cy="553680"/>
              <a:chOff x="1441080" y="2248200"/>
              <a:chExt cx="186840" cy="553680"/>
            </a:xfrm>
          </p:grpSpPr>
          <p:sp>
            <p:nvSpPr>
              <p:cNvPr id="829" name=""/>
              <p:cNvSpPr/>
              <p:nvPr/>
            </p:nvSpPr>
            <p:spPr>
              <a:xfrm>
                <a:off x="1460520" y="2248200"/>
                <a:ext cx="14256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1080" y="2281680"/>
                <a:ext cx="18684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1" name=""/>
            <p:cNvSpPr/>
            <p:nvPr/>
          </p:nvSpPr>
          <p:spPr>
            <a:xfrm>
              <a:off x="1060920" y="2028960"/>
              <a:ext cx="8769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Fe-O-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292640" y="1828800"/>
            <a:ext cx="2147400" cy="1573200"/>
            <a:chOff x="4292640" y="1828800"/>
            <a:chExt cx="2147400" cy="1573200"/>
          </a:xfrm>
        </p:grpSpPr>
        <p:sp>
          <p:nvSpPr>
            <p:cNvPr id="833" name=""/>
            <p:cNvSpPr/>
            <p:nvPr/>
          </p:nvSpPr>
          <p:spPr>
            <a:xfrm>
              <a:off x="4292640" y="1920960"/>
              <a:ext cx="2147400" cy="1481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92640" y="1828800"/>
              <a:ext cx="2147400" cy="241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35320" y="2073240"/>
              <a:ext cx="56556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57880" y="2835360"/>
              <a:ext cx="1836000" cy="3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билизирующ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л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5087160" y="2187720"/>
              <a:ext cx="185040" cy="553320"/>
              <a:chOff x="5087160" y="2187720"/>
              <a:chExt cx="185040" cy="553320"/>
            </a:xfrm>
          </p:grpSpPr>
          <p:sp>
            <p:nvSpPr>
              <p:cNvPr id="838" name=""/>
              <p:cNvSpPr/>
              <p:nvPr/>
            </p:nvSpPr>
            <p:spPr>
              <a:xfrm>
                <a:off x="5106240" y="2187720"/>
                <a:ext cx="14148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087160" y="2221200"/>
                <a:ext cx="185040" cy="51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0" name=""/>
            <p:cNvGrpSpPr/>
            <p:nvPr/>
          </p:nvGrpSpPr>
          <p:grpSpPr>
            <a:xfrm>
              <a:off x="5320800" y="2187720"/>
              <a:ext cx="186840" cy="553320"/>
              <a:chOff x="5320800" y="2187720"/>
              <a:chExt cx="186840" cy="553320"/>
            </a:xfrm>
          </p:grpSpPr>
          <p:sp>
            <p:nvSpPr>
              <p:cNvPr id="841" name=""/>
              <p:cNvSpPr/>
              <p:nvPr/>
            </p:nvSpPr>
            <p:spPr>
              <a:xfrm>
                <a:off x="5340240" y="2187720"/>
                <a:ext cx="14256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4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320800" y="2221200"/>
                <a:ext cx="186840" cy="51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3" name=""/>
            <p:cNvSpPr/>
            <p:nvPr/>
          </p:nvSpPr>
          <p:spPr>
            <a:xfrm>
              <a:off x="4941000" y="1968480"/>
              <a:ext cx="87660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Fe-O-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412920" y="4191120"/>
            <a:ext cx="2147400" cy="2243160"/>
            <a:chOff x="412920" y="4191120"/>
            <a:chExt cx="2147400" cy="2243160"/>
          </a:xfrm>
        </p:grpSpPr>
        <p:sp>
          <p:nvSpPr>
            <p:cNvPr id="845" name=""/>
            <p:cNvSpPr/>
            <p:nvPr/>
          </p:nvSpPr>
          <p:spPr>
            <a:xfrm>
              <a:off x="412920" y="4952880"/>
              <a:ext cx="2147400" cy="1481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2920" y="4191120"/>
              <a:ext cx="2147400" cy="8366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2920" y="4861080"/>
              <a:ext cx="2147400" cy="241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55600" y="5105520"/>
              <a:ext cx="565560" cy="6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7800" y="5867280"/>
              <a:ext cx="1836360" cy="3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билизирующ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л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1207080" y="5219640"/>
              <a:ext cx="185400" cy="553680"/>
              <a:chOff x="1207080" y="5219640"/>
              <a:chExt cx="185400" cy="553680"/>
            </a:xfrm>
          </p:grpSpPr>
          <p:sp>
            <p:nvSpPr>
              <p:cNvPr id="851" name=""/>
              <p:cNvSpPr/>
              <p:nvPr/>
            </p:nvSpPr>
            <p:spPr>
              <a:xfrm>
                <a:off x="1226160" y="5219640"/>
                <a:ext cx="14148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07080" y="5253120"/>
                <a:ext cx="18540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3" name=""/>
            <p:cNvGrpSpPr/>
            <p:nvPr/>
          </p:nvGrpSpPr>
          <p:grpSpPr>
            <a:xfrm>
              <a:off x="1441080" y="5219640"/>
              <a:ext cx="186840" cy="553680"/>
              <a:chOff x="1441080" y="5219640"/>
              <a:chExt cx="186840" cy="553680"/>
            </a:xfrm>
          </p:grpSpPr>
          <p:sp>
            <p:nvSpPr>
              <p:cNvPr id="854" name=""/>
              <p:cNvSpPr/>
              <p:nvPr/>
            </p:nvSpPr>
            <p:spPr>
              <a:xfrm>
                <a:off x="1460520" y="5219640"/>
                <a:ext cx="14256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41080" y="5253120"/>
                <a:ext cx="18684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6" name=""/>
            <p:cNvSpPr/>
            <p:nvPr/>
          </p:nvSpPr>
          <p:spPr>
            <a:xfrm>
              <a:off x="1060920" y="5000760"/>
              <a:ext cx="87660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Fe-O-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4457880" y="4191120"/>
            <a:ext cx="2147400" cy="2243160"/>
            <a:chOff x="4457880" y="4191120"/>
            <a:chExt cx="2147400" cy="2243160"/>
          </a:xfrm>
        </p:grpSpPr>
        <p:sp>
          <p:nvSpPr>
            <p:cNvPr id="858" name=""/>
            <p:cNvSpPr/>
            <p:nvPr/>
          </p:nvSpPr>
          <p:spPr>
            <a:xfrm>
              <a:off x="4457880" y="4952880"/>
              <a:ext cx="2147400" cy="14814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57880" y="4191120"/>
              <a:ext cx="2147400" cy="8366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57880" y="4861080"/>
              <a:ext cx="2147400" cy="2412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00560" y="5105520"/>
              <a:ext cx="565560" cy="6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22760" y="5867280"/>
              <a:ext cx="1836360" cy="3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билизирующ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л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5252040" y="5219640"/>
              <a:ext cx="185400" cy="553680"/>
              <a:chOff x="5252040" y="5219640"/>
              <a:chExt cx="185400" cy="553680"/>
            </a:xfrm>
          </p:grpSpPr>
          <p:sp>
            <p:nvSpPr>
              <p:cNvPr id="864" name=""/>
              <p:cNvSpPr/>
              <p:nvPr/>
            </p:nvSpPr>
            <p:spPr>
              <a:xfrm>
                <a:off x="5271120" y="5219640"/>
                <a:ext cx="14148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252040" y="5253120"/>
                <a:ext cx="18540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6" name=""/>
            <p:cNvGrpSpPr/>
            <p:nvPr/>
          </p:nvGrpSpPr>
          <p:grpSpPr>
            <a:xfrm>
              <a:off x="5486040" y="5219640"/>
              <a:ext cx="186840" cy="553680"/>
              <a:chOff x="5486040" y="5219640"/>
              <a:chExt cx="186840" cy="553680"/>
            </a:xfrm>
          </p:grpSpPr>
          <p:sp>
            <p:nvSpPr>
              <p:cNvPr id="867" name=""/>
              <p:cNvSpPr/>
              <p:nvPr/>
            </p:nvSpPr>
            <p:spPr>
              <a:xfrm>
                <a:off x="5505480" y="5219640"/>
                <a:ext cx="14256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86040" y="5253120"/>
                <a:ext cx="18684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9" name=""/>
            <p:cNvSpPr/>
            <p:nvPr/>
          </p:nvSpPr>
          <p:spPr>
            <a:xfrm>
              <a:off x="5105880" y="5000760"/>
              <a:ext cx="87660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Fe-O-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733400" y="152280"/>
            <a:ext cx="6190920" cy="838440"/>
            <a:chOff x="1733400" y="152280"/>
            <a:chExt cx="6190920" cy="838440"/>
          </a:xfrm>
        </p:grpSpPr>
        <p:sp>
          <p:nvSpPr>
            <p:cNvPr id="871" name=""/>
            <p:cNvSpPr/>
            <p:nvPr/>
          </p:nvSpPr>
          <p:spPr>
            <a:xfrm>
              <a:off x="1733400" y="152280"/>
              <a:ext cx="61909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4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Схема  строения модифицирующего сло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на основе</a:t>
              </a: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метилвинилдихлорсилана </a:t>
              </a: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(</a:t>
              </a: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МВС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39680" y="152280"/>
              <a:ext cx="5778360" cy="8384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1981080" y="3581280"/>
            <a:ext cx="0" cy="381240"/>
          </a:xfrm>
          <a:prstGeom prst="line">
            <a:avLst/>
          </a:prstGeom>
          <a:ln w="19080">
            <a:solidFill>
              <a:srgbClr val="ffff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2641680" y="1981080"/>
            <a:ext cx="1568160" cy="762120"/>
            <a:chOff x="2641680" y="1981080"/>
            <a:chExt cx="1568160" cy="762120"/>
          </a:xfrm>
        </p:grpSpPr>
        <p:sp>
          <p:nvSpPr>
            <p:cNvPr id="875" name=""/>
            <p:cNvSpPr/>
            <p:nvPr/>
          </p:nvSpPr>
          <p:spPr>
            <a:xfrm>
              <a:off x="2641680" y="2151000"/>
              <a:ext cx="156816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df"/>
                  </a:solidFill>
                  <a:latin typeface="Times New Roman"/>
                </a:rPr>
                <a:t>СХ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df"/>
                  </a:solidFill>
                  <a:latin typeface="Times New Roman"/>
                </a:rPr>
                <a:t>бром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06920" y="1981080"/>
              <a:ext cx="132012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681280" y="4724280"/>
            <a:ext cx="1568160" cy="685800"/>
            <a:chOff x="2681280" y="4724280"/>
            <a:chExt cx="1568160" cy="685800"/>
          </a:xfrm>
        </p:grpSpPr>
        <p:sp>
          <p:nvSpPr>
            <p:cNvPr id="878" name=""/>
            <p:cNvSpPr/>
            <p:nvPr/>
          </p:nvSpPr>
          <p:spPr>
            <a:xfrm>
              <a:off x="2681280" y="4876920"/>
              <a:ext cx="1568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df"/>
                  </a:solidFill>
                  <a:latin typeface="Times New Roman"/>
                </a:rPr>
                <a:t>СХ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df"/>
                  </a:solidFill>
                  <a:latin typeface="Times New Roman"/>
                </a:rPr>
                <a:t>бром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06560" y="4724280"/>
              <a:ext cx="1320480" cy="0"/>
            </a:xfrm>
            <a:prstGeom prst="line">
              <a:avLst/>
            </a:prstGeom>
            <a:ln w="19080">
              <a:solidFill>
                <a:srgbClr val="ffffd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577800" y="3581280"/>
            <a:ext cx="132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f"/>
                </a:solidFill>
                <a:latin typeface="Times New Roman"/>
              </a:rPr>
              <a:t>У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f"/>
                </a:solidFill>
                <a:latin typeface="Times New Roman"/>
              </a:rPr>
              <a:t>облу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16760" y="2743200"/>
            <a:ext cx="412920" cy="2286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934320" y="3657600"/>
            <a:ext cx="412560" cy="228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78640" y="3614760"/>
            <a:ext cx="2427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f"/>
                </a:solidFill>
                <a:latin typeface="Times New Roman"/>
              </a:rPr>
              <a:t>Олигомериз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df"/>
                </a:solidFill>
                <a:latin typeface="Times New Roman"/>
              </a:rPr>
              <a:t>слой МВ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C75-38E1-492C-B9C3-3F65354D1B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1486080" y="162000"/>
            <a:ext cx="5947920" cy="761760"/>
            <a:chOff x="1486080" y="162000"/>
            <a:chExt cx="5947920" cy="761760"/>
          </a:xfrm>
        </p:grpSpPr>
        <p:sp>
          <p:nvSpPr>
            <p:cNvPr id="885" name=""/>
            <p:cNvSpPr/>
            <p:nvPr/>
          </p:nvSpPr>
          <p:spPr>
            <a:xfrm>
              <a:off x="1650960" y="304920"/>
              <a:ext cx="5607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Модифицирующие слои на основе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γ</a:t>
              </a: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аминопропилтриэтоксисилана (АПТЭС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86080" y="162000"/>
              <a:ext cx="5947920" cy="76176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04920" y="1447920"/>
            <a:ext cx="5000040" cy="4400640"/>
            <a:chOff x="304920" y="1447920"/>
            <a:chExt cx="5000040" cy="4400640"/>
          </a:xfrm>
        </p:grpSpPr>
        <p:graphicFrame>
          <p:nvGraphicFramePr>
            <p:cNvPr id="888" name=""/>
            <p:cNvGraphicFramePr/>
            <p:nvPr/>
          </p:nvGraphicFramePr>
          <p:xfrm>
            <a:off x="304920" y="1447920"/>
            <a:ext cx="5000040" cy="43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447920"/>
                      <a:ext cx="5000040" cy="43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0" name=""/>
            <p:cNvSpPr/>
            <p:nvPr/>
          </p:nvSpPr>
          <p:spPr>
            <a:xfrm>
              <a:off x="1790280" y="5480280"/>
              <a:ext cx="195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Энергия связи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77720" y="1600200"/>
              <a:ext cx="644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2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54160" y="1600200"/>
              <a:ext cx="644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1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4947480" y="2940120"/>
                  <a:ext cx="12384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94" name=""/>
            <p:cNvSpPr/>
            <p:nvPr/>
          </p:nvSpPr>
          <p:spPr>
            <a:xfrm>
              <a:off x="2285640" y="2057400"/>
              <a:ext cx="907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олимер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АПТЭ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1873080" y="4343400"/>
              <a:ext cx="1254600" cy="432000"/>
              <a:chOff x="1873080" y="4343400"/>
              <a:chExt cx="1254600" cy="432000"/>
            </a:xfrm>
          </p:grpSpPr>
          <p:sp>
            <p:nvSpPr>
              <p:cNvPr id="896" name=""/>
              <p:cNvSpPr/>
              <p:nvPr/>
            </p:nvSpPr>
            <p:spPr>
              <a:xfrm>
                <a:off x="2285280" y="4419720"/>
                <a:ext cx="842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АПТЭС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в парах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7" name=""/>
              <p:cNvGrpSpPr/>
              <p:nvPr/>
            </p:nvGrpSpPr>
            <p:grpSpPr>
              <a:xfrm>
                <a:off x="1873080" y="4343400"/>
                <a:ext cx="412200" cy="432000"/>
                <a:chOff x="1873080" y="4343400"/>
                <a:chExt cx="412200" cy="432000"/>
              </a:xfrm>
            </p:grpSpPr>
            <p:pic>
              <p:nvPicPr>
                <p:cNvPr id="8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73080" y="4343400"/>
                  <a:ext cx="412200" cy="43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20320" y="4501440"/>
                  <a:ext cx="129600" cy="13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00" name=""/>
            <p:cNvGrpSpPr/>
            <p:nvPr/>
          </p:nvGrpSpPr>
          <p:grpSpPr>
            <a:xfrm>
              <a:off x="1744200" y="3124440"/>
              <a:ext cx="2025360" cy="567720"/>
              <a:chOff x="1744200" y="3124440"/>
              <a:chExt cx="2025360" cy="567720"/>
            </a:xfrm>
          </p:grpSpPr>
          <p:sp>
            <p:nvSpPr>
              <p:cNvPr id="901" name=""/>
              <p:cNvSpPr/>
              <p:nvPr/>
            </p:nvSpPr>
            <p:spPr>
              <a:xfrm>
                <a:off x="2118600" y="3235320"/>
                <a:ext cx="1650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АПТЭС из р-р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в  толуол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1744200" y="3124440"/>
                <a:ext cx="412200" cy="431640"/>
                <a:chOff x="1744200" y="3124440"/>
                <a:chExt cx="412200" cy="431640"/>
              </a:xfrm>
            </p:grpSpPr>
            <p:pic>
              <p:nvPicPr>
                <p:cNvPr id="9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44200" y="3124440"/>
                  <a:ext cx="41220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91440" y="3282120"/>
                  <a:ext cx="12960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05" name=""/>
          <p:cNvGrpSpPr/>
          <p:nvPr/>
        </p:nvGrpSpPr>
        <p:grpSpPr>
          <a:xfrm>
            <a:off x="6019920" y="1371600"/>
            <a:ext cx="3344040" cy="1181160"/>
            <a:chOff x="6019920" y="1371600"/>
            <a:chExt cx="3344040" cy="1181160"/>
          </a:xfrm>
        </p:grpSpPr>
        <p:grpSp>
          <p:nvGrpSpPr>
            <p:cNvPr id="906" name=""/>
            <p:cNvGrpSpPr/>
            <p:nvPr/>
          </p:nvGrpSpPr>
          <p:grpSpPr>
            <a:xfrm>
              <a:off x="6288120" y="1371600"/>
              <a:ext cx="3075840" cy="1181160"/>
              <a:chOff x="6288120" y="1371600"/>
              <a:chExt cx="3075840" cy="1181160"/>
            </a:xfrm>
          </p:grpSpPr>
          <p:sp>
            <p:nvSpPr>
              <p:cNvPr id="907" name=""/>
              <p:cNvSpPr/>
              <p:nvPr/>
            </p:nvSpPr>
            <p:spPr>
              <a:xfrm>
                <a:off x="6288120" y="1371600"/>
                <a:ext cx="3075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Исходная молекула АПТЭС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91040" y="1981080"/>
                <a:ext cx="0" cy="304920"/>
              </a:xfrm>
              <a:prstGeom prst="line">
                <a:avLst/>
              </a:prstGeom>
              <a:ln w="15840">
                <a:solidFill>
                  <a:srgbClr val="ffffb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865920" y="2286000"/>
                <a:ext cx="183240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N:C:</a:t>
                </a:r>
                <a:r>
                  <a:rPr b="0" lang="en-US" sz="1800" spc="-1" strike="noStrike">
                    <a:solidFill>
                      <a:srgbClr val="ff9327"/>
                    </a:solidFill>
                    <a:latin typeface="Times New Roman"/>
                  </a:rPr>
                  <a:t>Si:O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=1:9:</a:t>
                </a:r>
                <a:r>
                  <a:rPr b="0" lang="en-US" sz="1800" spc="-1" strike="noStrike">
                    <a:solidFill>
                      <a:srgbClr val="ff9327"/>
                    </a:solidFill>
                    <a:latin typeface="Times New Roman"/>
                  </a:rPr>
                  <a:t>1: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618240" y="1644480"/>
                <a:ext cx="23104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H</a:t>
                </a:r>
                <a:r>
                  <a:rPr b="0" lang="en-US" sz="1800" spc="-1" strike="noStrike" baseline="-25000">
                    <a:solidFill>
                      <a:srgbClr val="ffffbd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N(CH</a:t>
                </a:r>
                <a:r>
                  <a:rPr b="0" lang="en-US" sz="1800" spc="-1" strike="noStrike" baseline="-25000">
                    <a:solidFill>
                      <a:srgbClr val="ffffbd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)</a:t>
                </a:r>
                <a:r>
                  <a:rPr b="0" lang="en-US" sz="1800" spc="-1" strike="noStrike" baseline="-25000">
                    <a:solidFill>
                      <a:srgbClr val="ffffbd"/>
                    </a:solidFill>
                    <a:latin typeface="Times New Roman"/>
                  </a:rPr>
                  <a:t>3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Si(OC</a:t>
                </a:r>
                <a:r>
                  <a:rPr b="0" lang="en-US" sz="1800" spc="-1" strike="noStrike" baseline="-25000">
                    <a:solidFill>
                      <a:srgbClr val="ffffbd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H</a:t>
                </a:r>
                <a:r>
                  <a:rPr b="0" lang="en-US" sz="1800" spc="-1" strike="noStrike" baseline="-25000">
                    <a:solidFill>
                      <a:srgbClr val="ffffbd"/>
                    </a:solidFill>
                    <a:latin typeface="Times New Roman"/>
                  </a:rPr>
                  <a:t>5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)</a:t>
                </a:r>
                <a:r>
                  <a:rPr b="0" lang="en-US" sz="1800" spc="-1" strike="noStrike" baseline="-25000">
                    <a:solidFill>
                      <a:srgbClr val="ffffbd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>
              <a:off x="6019920" y="1482840"/>
              <a:ext cx="120240" cy="110880"/>
            </a:xfrm>
            <a:prstGeom prst="rect">
              <a:avLst/>
            </a:prstGeom>
            <a:solidFill>
              <a:srgbClr val="ff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943600" y="2971800"/>
            <a:ext cx="3280680" cy="839880"/>
            <a:chOff x="5943600" y="2971800"/>
            <a:chExt cx="3280680" cy="839880"/>
          </a:xfrm>
        </p:grpSpPr>
        <p:grpSp>
          <p:nvGrpSpPr>
            <p:cNvPr id="913" name=""/>
            <p:cNvGrpSpPr/>
            <p:nvPr/>
          </p:nvGrpSpPr>
          <p:grpSpPr>
            <a:xfrm>
              <a:off x="6170400" y="2971800"/>
              <a:ext cx="3053880" cy="839880"/>
              <a:chOff x="6170400" y="2971800"/>
              <a:chExt cx="3053880" cy="839880"/>
            </a:xfrm>
          </p:grpSpPr>
          <p:sp>
            <p:nvSpPr>
              <p:cNvPr id="914" name=""/>
              <p:cNvSpPr/>
              <p:nvPr/>
            </p:nvSpPr>
            <p:spPr>
              <a:xfrm>
                <a:off x="6170400" y="2971800"/>
                <a:ext cx="3053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bd"/>
                    </a:solidFill>
                    <a:latin typeface="Times New Roman"/>
                  </a:rPr>
                  <a:t>Полимеризованный АПТЭ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417720" y="3544920"/>
                <a:ext cx="233892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N:C:</a:t>
                </a:r>
                <a:r>
                  <a:rPr b="0" lang="en-US" sz="1800" spc="-1" strike="noStrike">
                    <a:solidFill>
                      <a:srgbClr val="ff9327"/>
                    </a:solidFill>
                    <a:latin typeface="Times New Roman"/>
                  </a:rPr>
                  <a:t>Si</a:t>
                </a:r>
                <a:r>
                  <a:rPr b="0" lang="ru-RU" sz="1800" spc="-1" strike="noStrike">
                    <a:solidFill>
                      <a:srgbClr val="ff9327"/>
                    </a:solidFill>
                    <a:latin typeface="Times New Roman"/>
                  </a:rPr>
                  <a:t>:</a:t>
                </a:r>
                <a:r>
                  <a:rPr b="0" lang="en-US" sz="1800" spc="-1" strike="noStrike">
                    <a:solidFill>
                      <a:srgbClr val="ff9327"/>
                    </a:solidFill>
                    <a:latin typeface="Times New Roman"/>
                  </a:rPr>
                  <a:t>O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Symbol"/>
                    <a:ea typeface="Symbol"/>
                  </a:rPr>
                  <a:t></a:t>
                </a:r>
                <a:r>
                  <a:rPr b="0" lang="ru-RU" sz="1800" spc="-1" strike="noStrike">
                    <a:solidFill>
                      <a:srgbClr val="ffffbd"/>
                    </a:solidFill>
                    <a:latin typeface="Times New Roman"/>
                  </a:rPr>
                  <a:t>0.4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:</a:t>
                </a:r>
                <a:r>
                  <a:rPr b="0" lang="ru-RU" sz="1800" spc="-1" strike="noStrike">
                    <a:solidFill>
                      <a:srgbClr val="ffffbd"/>
                    </a:solidFill>
                    <a:latin typeface="Times New Roman"/>
                  </a:rPr>
                  <a:t>5.5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:</a:t>
                </a:r>
                <a:r>
                  <a:rPr b="0" lang="en-US" sz="1800" spc="-1" strike="noStrike">
                    <a:solidFill>
                      <a:srgbClr val="ff9327"/>
                    </a:solidFill>
                    <a:latin typeface="Times New Roman"/>
                  </a:rPr>
                  <a:t>1:</a:t>
                </a:r>
                <a:r>
                  <a:rPr b="0" lang="ru-RU" sz="1800" spc="-1" strike="noStrike">
                    <a:solidFill>
                      <a:srgbClr val="ff9327"/>
                    </a:solidFill>
                    <a:latin typeface="Times New Roman"/>
                  </a:rPr>
                  <a:t>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490880" y="3276720"/>
                <a:ext cx="0" cy="304560"/>
              </a:xfrm>
              <a:prstGeom prst="line">
                <a:avLst/>
              </a:prstGeom>
              <a:ln w="15840">
                <a:solidFill>
                  <a:srgbClr val="ffffb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5943600" y="3124080"/>
              <a:ext cx="120240" cy="111240"/>
            </a:xfrm>
            <a:prstGeom prst="rect">
              <a:avLst/>
            </a:prstGeom>
            <a:solidFill>
              <a:srgbClr val="ff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019920" y="4343400"/>
            <a:ext cx="2675520" cy="876240"/>
            <a:chOff x="6019920" y="4343400"/>
            <a:chExt cx="2675520" cy="876240"/>
          </a:xfrm>
        </p:grpSpPr>
        <p:sp>
          <p:nvSpPr>
            <p:cNvPr id="919" name=""/>
            <p:cNvSpPr/>
            <p:nvPr/>
          </p:nvSpPr>
          <p:spPr>
            <a:xfrm>
              <a:off x="6019920" y="4528800"/>
              <a:ext cx="120600" cy="110880"/>
            </a:xfrm>
            <a:prstGeom prst="rect">
              <a:avLst/>
            </a:prstGeom>
            <a:solidFill>
              <a:srgbClr val="ff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6551640" y="4343400"/>
              <a:ext cx="2143800" cy="876240"/>
              <a:chOff x="6551640" y="4343400"/>
              <a:chExt cx="2143800" cy="876240"/>
            </a:xfrm>
          </p:grpSpPr>
          <p:sp>
            <p:nvSpPr>
              <p:cNvPr id="921" name=""/>
              <p:cNvSpPr/>
              <p:nvPr/>
            </p:nvSpPr>
            <p:spPr>
              <a:xfrm>
                <a:off x="7129080" y="4381560"/>
                <a:ext cx="842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bd"/>
                    </a:solidFill>
                    <a:latin typeface="Times New Roman"/>
                  </a:rPr>
                  <a:t>+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АПТЭ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551640" y="4952880"/>
                <a:ext cx="214380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N:C:</a:t>
                </a:r>
                <a:r>
                  <a:rPr b="0" lang="en-US" sz="1800" spc="-1" strike="noStrike">
                    <a:solidFill>
                      <a:srgbClr val="ff9327"/>
                    </a:solidFill>
                    <a:latin typeface="Times New Roman"/>
                  </a:rPr>
                  <a:t>Si:O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Symbol"/>
                    <a:ea typeface="Symbol"/>
                  </a:rPr>
                  <a:t></a:t>
                </a:r>
                <a:r>
                  <a:rPr b="0" lang="ru-RU" sz="1800" spc="-1" strike="noStrike">
                    <a:solidFill>
                      <a:srgbClr val="ffffbd"/>
                    </a:solidFill>
                    <a:latin typeface="Times New Roman"/>
                  </a:rPr>
                  <a:t>0.6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:</a:t>
                </a:r>
                <a:r>
                  <a:rPr b="0" lang="ru-RU" sz="1800" spc="-1" strike="noStrike">
                    <a:solidFill>
                      <a:srgbClr val="ffffbd"/>
                    </a:solidFill>
                    <a:latin typeface="Times New Roman"/>
                  </a:rPr>
                  <a:t>5</a:t>
                </a: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:</a:t>
                </a:r>
                <a:r>
                  <a:rPr b="0" lang="en-US" sz="1800" spc="-1" strike="noStrike">
                    <a:solidFill>
                      <a:srgbClr val="ff9327"/>
                    </a:solidFill>
                    <a:latin typeface="Times New Roman"/>
                  </a:rPr>
                  <a:t>1:</a:t>
                </a:r>
                <a:r>
                  <a:rPr b="0" lang="ru-RU" sz="1800" spc="-1" strike="noStrike">
                    <a:solidFill>
                      <a:srgbClr val="ff9327"/>
                    </a:solidFill>
                    <a:latin typeface="Times New Roman"/>
                  </a:rPr>
                  <a:t>1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24080" y="4687920"/>
                <a:ext cx="0" cy="304920"/>
              </a:xfrm>
              <a:prstGeom prst="line">
                <a:avLst/>
              </a:prstGeom>
              <a:ln w="15840">
                <a:solidFill>
                  <a:srgbClr val="ffffb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755760" y="4343400"/>
                <a:ext cx="412200" cy="380520"/>
                <a:chOff x="6755760" y="4343400"/>
                <a:chExt cx="412200" cy="3805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883560" y="4456080"/>
                  <a:ext cx="176040" cy="169560"/>
                </a:xfrm>
                <a:prstGeom prst="ellipse">
                  <a:avLst/>
                </a:prstGeom>
                <a:solidFill>
                  <a:srgbClr val="ff66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927840" y="4343400"/>
                  <a:ext cx="38160" cy="119160"/>
                </a:xfrm>
                <a:custGeom>
                  <a:avLst/>
                  <a:gdLst/>
                  <a:ahLst/>
                  <a:rect l="l" t="t" r="r" b="b"/>
                  <a:pathLst>
                    <a:path w="10" h="33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1" y="10"/>
                      </a:lnTo>
                      <a:lnTo>
                        <a:pt x="9" y="14"/>
                      </a:lnTo>
                      <a:lnTo>
                        <a:pt x="1" y="19"/>
                      </a:lnTo>
                      <a:lnTo>
                        <a:pt x="10" y="23"/>
                      </a:lnTo>
                      <a:lnTo>
                        <a:pt x="2" y="27"/>
                      </a:lnTo>
                      <a:lnTo>
                        <a:pt x="10" y="31"/>
                      </a:lnTo>
                      <a:lnTo>
                        <a:pt x="6" y="33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991920" y="4607280"/>
                  <a:ext cx="59040" cy="112680"/>
                </a:xfrm>
                <a:custGeom>
                  <a:avLst/>
                  <a:gdLst/>
                  <a:ahLst/>
                  <a:rect l="l" t="t" r="r" b="b"/>
                  <a:pathLst>
                    <a:path w="16" h="31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9" y="4"/>
                      </a:lnTo>
                      <a:lnTo>
                        <a:pt x="2" y="10"/>
                      </a:lnTo>
                      <a:lnTo>
                        <a:pt x="12" y="12"/>
                      </a:lnTo>
                      <a:lnTo>
                        <a:pt x="5" y="18"/>
                      </a:lnTo>
                      <a:lnTo>
                        <a:pt x="14" y="20"/>
                      </a:lnTo>
                      <a:lnTo>
                        <a:pt x="7" y="26"/>
                      </a:lnTo>
                      <a:lnTo>
                        <a:pt x="16" y="28"/>
                      </a:lnTo>
                      <a:lnTo>
                        <a:pt x="13" y="31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14240" y="4361760"/>
                  <a:ext cx="59040" cy="108720"/>
                </a:xfrm>
                <a:custGeom>
                  <a:avLst/>
                  <a:gdLst/>
                  <a:ahLst/>
                  <a:rect l="l" t="t" r="r" b="b"/>
                  <a:pathLst>
                    <a:path w="16" h="30">
                      <a:moveTo>
                        <a:pt x="15" y="0"/>
                      </a:moveTo>
                      <a:lnTo>
                        <a:pt x="10" y="0"/>
                      </a:lnTo>
                      <a:lnTo>
                        <a:pt x="16" y="7"/>
                      </a:lnTo>
                      <a:lnTo>
                        <a:pt x="6" y="7"/>
                      </a:lnTo>
                      <a:lnTo>
                        <a:pt x="13" y="15"/>
                      </a:lnTo>
                      <a:lnTo>
                        <a:pt x="3" y="15"/>
                      </a:lnTo>
                      <a:lnTo>
                        <a:pt x="9" y="23"/>
                      </a:lnTo>
                      <a:lnTo>
                        <a:pt x="0" y="22"/>
                      </a:lnTo>
                      <a:lnTo>
                        <a:pt x="6" y="30"/>
                      </a:lnTo>
                      <a:lnTo>
                        <a:pt x="1" y="30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991920" y="4607280"/>
                  <a:ext cx="59040" cy="112680"/>
                </a:xfrm>
                <a:custGeom>
                  <a:avLst/>
                  <a:gdLst/>
                  <a:ahLst/>
                  <a:rect l="l" t="t" r="r" b="b"/>
                  <a:pathLst>
                    <a:path w="16" h="31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9" y="4"/>
                      </a:lnTo>
                      <a:lnTo>
                        <a:pt x="2" y="10"/>
                      </a:lnTo>
                      <a:lnTo>
                        <a:pt x="12" y="12"/>
                      </a:lnTo>
                      <a:lnTo>
                        <a:pt x="5" y="18"/>
                      </a:lnTo>
                      <a:lnTo>
                        <a:pt x="14" y="20"/>
                      </a:lnTo>
                      <a:lnTo>
                        <a:pt x="7" y="26"/>
                      </a:lnTo>
                      <a:lnTo>
                        <a:pt x="16" y="28"/>
                      </a:lnTo>
                      <a:lnTo>
                        <a:pt x="13" y="31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991920" y="4607280"/>
                  <a:ext cx="59040" cy="112680"/>
                </a:xfrm>
                <a:custGeom>
                  <a:avLst/>
                  <a:gdLst/>
                  <a:ahLst/>
                  <a:rect l="l" t="t" r="r" b="b"/>
                  <a:pathLst>
                    <a:path w="16" h="31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9" y="4"/>
                      </a:lnTo>
                      <a:lnTo>
                        <a:pt x="2" y="10"/>
                      </a:lnTo>
                      <a:lnTo>
                        <a:pt x="12" y="12"/>
                      </a:lnTo>
                      <a:lnTo>
                        <a:pt x="5" y="18"/>
                      </a:lnTo>
                      <a:lnTo>
                        <a:pt x="14" y="20"/>
                      </a:lnTo>
                      <a:lnTo>
                        <a:pt x="7" y="26"/>
                      </a:lnTo>
                      <a:lnTo>
                        <a:pt x="16" y="28"/>
                      </a:lnTo>
                      <a:lnTo>
                        <a:pt x="13" y="31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051320" y="4575600"/>
                  <a:ext cx="116640" cy="835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7" y="0"/>
                      </a:lnTo>
                      <a:lnTo>
                        <a:pt x="6" y="9"/>
                      </a:lnTo>
                      <a:lnTo>
                        <a:pt x="13" y="5"/>
                      </a:lnTo>
                      <a:lnTo>
                        <a:pt x="12" y="13"/>
                      </a:lnTo>
                      <a:lnTo>
                        <a:pt x="19" y="9"/>
                      </a:lnTo>
                      <a:lnTo>
                        <a:pt x="18" y="18"/>
                      </a:lnTo>
                      <a:lnTo>
                        <a:pt x="25" y="14"/>
                      </a:lnTo>
                      <a:lnTo>
                        <a:pt x="24" y="22"/>
                      </a:lnTo>
                      <a:lnTo>
                        <a:pt x="31" y="18"/>
                      </a:lnTo>
                      <a:lnTo>
                        <a:pt x="30" y="23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051320" y="4452120"/>
                  <a:ext cx="108720" cy="7560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29" y="3"/>
                      </a:moveTo>
                      <a:lnTo>
                        <a:pt x="25" y="0"/>
                      </a:lnTo>
                      <a:lnTo>
                        <a:pt x="25" y="10"/>
                      </a:lnTo>
                      <a:lnTo>
                        <a:pt x="18" y="4"/>
                      </a:lnTo>
                      <a:lnTo>
                        <a:pt x="18" y="14"/>
                      </a:lnTo>
                      <a:lnTo>
                        <a:pt x="10" y="8"/>
                      </a:lnTo>
                      <a:lnTo>
                        <a:pt x="11" y="18"/>
                      </a:lnTo>
                      <a:lnTo>
                        <a:pt x="3" y="11"/>
                      </a:lnTo>
                      <a:lnTo>
                        <a:pt x="3" y="21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755760" y="4499640"/>
                  <a:ext cx="119520" cy="5040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0" y="2"/>
                      </a:moveTo>
                      <a:lnTo>
                        <a:pt x="1" y="7"/>
                      </a:lnTo>
                      <a:lnTo>
                        <a:pt x="7" y="0"/>
                      </a:lnTo>
                      <a:lnTo>
                        <a:pt x="9" y="9"/>
                      </a:lnTo>
                      <a:lnTo>
                        <a:pt x="15" y="2"/>
                      </a:lnTo>
                      <a:lnTo>
                        <a:pt x="17" y="12"/>
                      </a:lnTo>
                      <a:lnTo>
                        <a:pt x="23" y="5"/>
                      </a:lnTo>
                      <a:lnTo>
                        <a:pt x="25" y="14"/>
                      </a:lnTo>
                      <a:lnTo>
                        <a:pt x="31" y="7"/>
                      </a:lnTo>
                      <a:lnTo>
                        <a:pt x="32" y="12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789960" y="4590000"/>
                  <a:ext cx="115560" cy="7164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0" y="17"/>
                      </a:moveTo>
                      <a:lnTo>
                        <a:pt x="4" y="20"/>
                      </a:lnTo>
                      <a:lnTo>
                        <a:pt x="4" y="10"/>
                      </a:lnTo>
                      <a:lnTo>
                        <a:pt x="12" y="16"/>
                      </a:lnTo>
                      <a:lnTo>
                        <a:pt x="12" y="7"/>
                      </a:lnTo>
                      <a:lnTo>
                        <a:pt x="19" y="13"/>
                      </a:lnTo>
                      <a:lnTo>
                        <a:pt x="19" y="3"/>
                      </a:lnTo>
                      <a:lnTo>
                        <a:pt x="27" y="9"/>
                      </a:lnTo>
                      <a:lnTo>
                        <a:pt x="27" y="0"/>
                      </a:lnTo>
                      <a:lnTo>
                        <a:pt x="31" y="3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905520" y="4611240"/>
                  <a:ext cx="56160" cy="1126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4" y="0"/>
                      </a:moveTo>
                      <a:lnTo>
                        <a:pt x="9" y="1"/>
                      </a:lnTo>
                      <a:lnTo>
                        <a:pt x="15" y="7"/>
                      </a:lnTo>
                      <a:lnTo>
                        <a:pt x="6" y="9"/>
                      </a:lnTo>
                      <a:lnTo>
                        <a:pt x="13" y="15"/>
                      </a:lnTo>
                      <a:lnTo>
                        <a:pt x="3" y="16"/>
                      </a:lnTo>
                      <a:lnTo>
                        <a:pt x="10" y="22"/>
                      </a:lnTo>
                      <a:lnTo>
                        <a:pt x="0" y="24"/>
                      </a:lnTo>
                      <a:lnTo>
                        <a:pt x="7" y="30"/>
                      </a:lnTo>
                      <a:lnTo>
                        <a:pt x="2" y="31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804720" y="4412160"/>
                  <a:ext cx="100440" cy="7272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7" y="1"/>
                      </a:lnTo>
                      <a:lnTo>
                        <a:pt x="6" y="9"/>
                      </a:lnTo>
                      <a:lnTo>
                        <a:pt x="14" y="6"/>
                      </a:lnTo>
                      <a:lnTo>
                        <a:pt x="13" y="14"/>
                      </a:lnTo>
                      <a:lnTo>
                        <a:pt x="21" y="11"/>
                      </a:lnTo>
                      <a:lnTo>
                        <a:pt x="20" y="19"/>
                      </a:lnTo>
                      <a:lnTo>
                        <a:pt x="27" y="15"/>
                      </a:lnTo>
                      <a:lnTo>
                        <a:pt x="27" y="20"/>
                      </a:lnTo>
                    </a:path>
                  </a:pathLst>
                </a:custGeom>
                <a:noFill/>
                <a:ln w="6480">
                  <a:solidFill>
                    <a:srgbClr val="ff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F5A-DC6E-48DE-90B5-2731BEFC44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7" name=""/>
          <p:cNvGraphicFramePr/>
          <p:nvPr/>
        </p:nvGraphicFramePr>
        <p:xfrm>
          <a:off x="649440" y="1371600"/>
          <a:ext cx="369540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371600"/>
                    <a:ext cx="3695400" cy="52196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1523880" y="2819520"/>
            <a:ext cx="519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10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00240" y="2778120"/>
            <a:ext cx="439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1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100240" y="3505320"/>
            <a:ext cx="519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1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527120" y="3540240"/>
            <a:ext cx="412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10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403280" y="6019920"/>
            <a:ext cx="3301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94000" y="5943600"/>
            <a:ext cx="495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797280" y="594828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16200" y="6248520"/>
            <a:ext cx="4953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816200" y="4038480"/>
            <a:ext cx="412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898640" y="2209680"/>
            <a:ext cx="412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66720" y="196920"/>
            <a:ext cx="619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Схема  строения модифицирующего сло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на основе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γ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аминопропилтриэтоксисилана (АПТЭС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73160" y="201600"/>
            <a:ext cx="709920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06560" y="1600560"/>
            <a:ext cx="165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арах АПТЭ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054240" y="2743200"/>
            <a:ext cx="11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 раств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19480" y="3886200"/>
            <a:ext cx="90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име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ПТЭ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19480" y="5257800"/>
            <a:ext cx="88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н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200560" y="1219320"/>
            <a:ext cx="4512960" cy="2263680"/>
            <a:chOff x="5200560" y="1219320"/>
            <a:chExt cx="4512960" cy="2263680"/>
          </a:xfrm>
        </p:grpSpPr>
        <p:sp>
          <p:nvSpPr>
            <p:cNvPr id="956" name=""/>
            <p:cNvSpPr/>
            <p:nvPr/>
          </p:nvSpPr>
          <p:spPr>
            <a:xfrm>
              <a:off x="6191280" y="2133720"/>
              <a:ext cx="565920" cy="6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00560" y="1981080"/>
              <a:ext cx="2846520" cy="1501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200560" y="1905120"/>
              <a:ext cx="2811960" cy="315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91280" y="2133720"/>
              <a:ext cx="565920" cy="6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95920" y="2971800"/>
              <a:ext cx="1837080" cy="3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билизирующ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л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6230520" y="2286000"/>
              <a:ext cx="185400" cy="553680"/>
              <a:chOff x="6230520" y="2286000"/>
              <a:chExt cx="185400" cy="553680"/>
            </a:xfrm>
          </p:grpSpPr>
          <p:sp>
            <p:nvSpPr>
              <p:cNvPr id="962" name=""/>
              <p:cNvSpPr/>
              <p:nvPr/>
            </p:nvSpPr>
            <p:spPr>
              <a:xfrm>
                <a:off x="6249600" y="2286000"/>
                <a:ext cx="14148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0520" y="2319480"/>
                <a:ext cx="18540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4" name=""/>
            <p:cNvGrpSpPr/>
            <p:nvPr/>
          </p:nvGrpSpPr>
          <p:grpSpPr>
            <a:xfrm>
              <a:off x="6476760" y="2286000"/>
              <a:ext cx="187200" cy="553680"/>
              <a:chOff x="6476760" y="2286000"/>
              <a:chExt cx="187200" cy="553680"/>
            </a:xfrm>
          </p:grpSpPr>
          <p:sp>
            <p:nvSpPr>
              <p:cNvPr id="965" name=""/>
              <p:cNvSpPr/>
              <p:nvPr/>
            </p:nvSpPr>
            <p:spPr>
              <a:xfrm>
                <a:off x="6496200" y="2286000"/>
                <a:ext cx="14292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6760" y="2319480"/>
                <a:ext cx="18720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7" name=""/>
            <p:cNvSpPr/>
            <p:nvPr/>
          </p:nvSpPr>
          <p:spPr>
            <a:xfrm>
              <a:off x="5448240" y="2057400"/>
              <a:ext cx="87696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Fe-O-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73720" y="2057400"/>
              <a:ext cx="138420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Fe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I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8089560" y="2098800"/>
              <a:ext cx="41292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540640" y="1943280"/>
              <a:ext cx="1172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bd"/>
                  </a:solidFill>
                  <a:latin typeface="Times New Roman"/>
                </a:rPr>
                <a:t>Моносло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bd"/>
                  </a:solidFill>
                  <a:latin typeface="Times New Roman"/>
                </a:rPr>
                <a:t>АПТЭ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26040" y="1219320"/>
              <a:ext cx="181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в парах АПТЭ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51520" y="1523880"/>
              <a:ext cx="0" cy="27000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5203800" y="3733920"/>
            <a:ext cx="2811240" cy="3051000"/>
            <a:chOff x="5203800" y="3733920"/>
            <a:chExt cx="2811240" cy="3051000"/>
          </a:xfrm>
        </p:grpSpPr>
        <p:sp>
          <p:nvSpPr>
            <p:cNvPr id="974" name=""/>
            <p:cNvSpPr/>
            <p:nvPr/>
          </p:nvSpPr>
          <p:spPr>
            <a:xfrm>
              <a:off x="6025680" y="3733920"/>
              <a:ext cx="1238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из раствор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203800" y="5303880"/>
              <a:ext cx="2805840" cy="14810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03800" y="4389480"/>
              <a:ext cx="2811240" cy="1154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194160" y="5456160"/>
              <a:ext cx="56556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698800" y="6294600"/>
              <a:ext cx="1836000" cy="3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билизирующ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л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233400" y="5608800"/>
              <a:ext cx="185040" cy="553680"/>
              <a:chOff x="6233400" y="5608800"/>
              <a:chExt cx="185040" cy="553680"/>
            </a:xfrm>
          </p:grpSpPr>
          <p:sp>
            <p:nvSpPr>
              <p:cNvPr id="980" name=""/>
              <p:cNvSpPr/>
              <p:nvPr/>
            </p:nvSpPr>
            <p:spPr>
              <a:xfrm>
                <a:off x="6252480" y="5608800"/>
                <a:ext cx="14148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233400" y="5642280"/>
                <a:ext cx="18504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2" name=""/>
            <p:cNvGrpSpPr/>
            <p:nvPr/>
          </p:nvGrpSpPr>
          <p:grpSpPr>
            <a:xfrm>
              <a:off x="6479640" y="5608800"/>
              <a:ext cx="186480" cy="553680"/>
              <a:chOff x="6479640" y="5608800"/>
              <a:chExt cx="186480" cy="553680"/>
            </a:xfrm>
          </p:grpSpPr>
          <p:sp>
            <p:nvSpPr>
              <p:cNvPr id="983" name=""/>
              <p:cNvSpPr/>
              <p:nvPr/>
            </p:nvSpPr>
            <p:spPr>
              <a:xfrm>
                <a:off x="6499080" y="5608800"/>
                <a:ext cx="14256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79640" y="5642280"/>
                <a:ext cx="18648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5" name=""/>
            <p:cNvSpPr/>
            <p:nvPr/>
          </p:nvSpPr>
          <p:spPr>
            <a:xfrm>
              <a:off x="5451120" y="5380200"/>
              <a:ext cx="87696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Fe-O-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276240" y="5380200"/>
              <a:ext cx="138420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Fe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I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51120" y="4694400"/>
              <a:ext cx="224568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лимеризованны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лой АПТЭ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85920" y="4038480"/>
              <a:ext cx="0" cy="27000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839520" y="16002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К- спект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2A7-22B5-497F-831F-13188398C1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"/>
          <p:cNvGrpSpPr/>
          <p:nvPr/>
        </p:nvGrpSpPr>
        <p:grpSpPr>
          <a:xfrm>
            <a:off x="2146320" y="157320"/>
            <a:ext cx="4952520" cy="761760"/>
            <a:chOff x="2146320" y="157320"/>
            <a:chExt cx="4952520" cy="761760"/>
          </a:xfrm>
        </p:grpSpPr>
        <p:sp>
          <p:nvSpPr>
            <p:cNvPr id="991" name=""/>
            <p:cNvSpPr/>
            <p:nvPr/>
          </p:nvSpPr>
          <p:spPr>
            <a:xfrm>
              <a:off x="2494800" y="184320"/>
              <a:ext cx="437940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Модифицирующие слои на основе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гексаметилендиамина</a:t>
              </a: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 (</a:t>
              </a: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ГМДА</a:t>
              </a: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46320" y="157320"/>
              <a:ext cx="4952520" cy="76176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273720" y="1219320"/>
            <a:ext cx="3136680" cy="799920"/>
            <a:chOff x="6273720" y="1219320"/>
            <a:chExt cx="3136680" cy="799920"/>
          </a:xfrm>
        </p:grpSpPr>
        <p:sp>
          <p:nvSpPr>
            <p:cNvPr id="994" name=""/>
            <p:cNvSpPr/>
            <p:nvPr/>
          </p:nvSpPr>
          <p:spPr>
            <a:xfrm>
              <a:off x="6273720" y="1219320"/>
              <a:ext cx="313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Исходная молекула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ГМДА: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16400" y="1676520"/>
              <a:ext cx="1667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NH</a:t>
              </a:r>
              <a:r>
                <a:rPr b="0" lang="en-US" sz="1800" spc="-1" strike="noStrike" baseline="-25000">
                  <a:solidFill>
                    <a:srgbClr val="ffffbd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(CH2)</a:t>
              </a:r>
              <a:r>
                <a:rPr b="0" lang="en-US" sz="1800" spc="-1" strike="noStrike" baseline="-25000">
                  <a:solidFill>
                    <a:srgbClr val="ffffbd"/>
                  </a:solidFill>
                  <a:latin typeface="Times New Roman"/>
                </a:rPr>
                <a:t>6</a:t>
              </a: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NH</a:t>
              </a:r>
              <a:r>
                <a:rPr b="0" lang="en-US" sz="1800" spc="-1" strike="noStrike" baseline="-25000">
                  <a:solidFill>
                    <a:srgbClr val="ffffbd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1481040" y="1940040"/>
            <a:ext cx="2441520" cy="457200"/>
          </a:xfrm>
          <a:prstGeom prst="rect">
            <a:avLst/>
          </a:prstGeom>
          <a:solidFill>
            <a:srgbClr val="f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660240" y="1143000"/>
          <a:ext cx="41054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143000"/>
                    <a:ext cx="4105440" cy="25146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9" name=""/>
          <p:cNvSpPr/>
          <p:nvPr/>
        </p:nvSpPr>
        <p:spPr>
          <a:xfrm>
            <a:off x="3733920" y="1852560"/>
            <a:ext cx="771480" cy="336600"/>
          </a:xfrm>
          <a:prstGeom prst="rect">
            <a:avLst/>
          </a:prstGeom>
          <a:solidFill>
            <a:srgbClr val="f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М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546360" y="2471760"/>
            <a:ext cx="1033560" cy="355680"/>
          </a:xfrm>
          <a:prstGeom prst="rect">
            <a:avLst/>
          </a:prstGeom>
          <a:solidFill>
            <a:srgbClr val="f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ПТЭ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011240" y="1231920"/>
            <a:ext cx="657360" cy="395280"/>
          </a:xfrm>
          <a:prstGeom prst="rect">
            <a:avLst/>
          </a:prstGeom>
          <a:solidFill>
            <a:srgbClr val="f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2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01800" y="1231920"/>
            <a:ext cx="561960" cy="395280"/>
          </a:xfrm>
          <a:prstGeom prst="rect">
            <a:avLst/>
          </a:prstGeom>
          <a:solidFill>
            <a:srgbClr val="f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1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81040" y="3181320"/>
            <a:ext cx="2252880" cy="353880"/>
          </a:xfrm>
          <a:prstGeom prst="rect">
            <a:avLst/>
          </a:prstGeom>
          <a:solidFill>
            <a:srgbClr val="f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нергия связи, э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65240" y="4482000"/>
            <a:ext cx="5448600" cy="1227240"/>
            <a:chOff x="165240" y="4482000"/>
            <a:chExt cx="5448600" cy="1227240"/>
          </a:xfrm>
        </p:grpSpPr>
        <p:grpSp>
          <p:nvGrpSpPr>
            <p:cNvPr id="1005" name=""/>
            <p:cNvGrpSpPr/>
            <p:nvPr/>
          </p:nvGrpSpPr>
          <p:grpSpPr>
            <a:xfrm>
              <a:off x="165240" y="4911840"/>
              <a:ext cx="5448600" cy="797400"/>
              <a:chOff x="165240" y="4911840"/>
              <a:chExt cx="5448600" cy="797400"/>
            </a:xfrm>
          </p:grpSpPr>
          <p:sp>
            <p:nvSpPr>
              <p:cNvPr id="1006" name=""/>
              <p:cNvSpPr/>
              <p:nvPr/>
            </p:nvSpPr>
            <p:spPr>
              <a:xfrm>
                <a:off x="165240" y="4911840"/>
                <a:ext cx="2558160" cy="79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bd"/>
                    </a:solidFill>
                    <a:latin typeface="Times New Roman"/>
                  </a:rPr>
                  <a:t>РФЭС + СХР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bd"/>
                    </a:solidFill>
                    <a:latin typeface="Times New Roman"/>
                  </a:rPr>
                  <a:t>            </a:t>
                </a:r>
                <a:r>
                  <a:rPr b="0" lang="ru-RU" sz="2400" spc="-1" strike="noStrike">
                    <a:solidFill>
                      <a:srgbClr val="ffffbd"/>
                    </a:solidFill>
                    <a:latin typeface="Times New Roman"/>
                  </a:rPr>
                  <a:t>( на </a:t>
                </a:r>
                <a:r>
                  <a:rPr b="0" lang="en-US" sz="2400" spc="-1" strike="noStrike">
                    <a:solidFill>
                      <a:srgbClr val="ffffbd"/>
                    </a:solidFill>
                    <a:latin typeface="Times New Roman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ffffbd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bd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113640" y="4911840"/>
                <a:ext cx="2500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bd"/>
                    </a:solidFill>
                    <a:latin typeface="Times New Roman"/>
                  </a:rPr>
                  <a:t>СХ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bd"/>
                    </a:solidFill>
                    <a:latin typeface="Times New Roman"/>
                  </a:rPr>
                  <a:t>(«мокрая химия»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V="1">
              <a:off x="1733040" y="4495320"/>
              <a:ext cx="1073160" cy="38124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76920" y="4482000"/>
              <a:ext cx="1109160" cy="44352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865080" y="5715000"/>
            <a:ext cx="4793760" cy="764640"/>
            <a:chOff x="865080" y="5715000"/>
            <a:chExt cx="4793760" cy="764640"/>
          </a:xfrm>
        </p:grpSpPr>
        <p:sp>
          <p:nvSpPr>
            <p:cNvPr id="1011" name=""/>
            <p:cNvSpPr/>
            <p:nvPr/>
          </p:nvSpPr>
          <p:spPr>
            <a:xfrm>
              <a:off x="865080" y="6019920"/>
              <a:ext cx="479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bd"/>
                  </a:solidFill>
                  <a:latin typeface="Times New Roman"/>
                </a:rPr>
                <a:t>Отсутствие свободных аминогруп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68520" y="5715000"/>
              <a:ext cx="0" cy="38124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40320" y="5715000"/>
              <a:ext cx="0" cy="38124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 flipH="1">
            <a:off x="7759800" y="3048120"/>
            <a:ext cx="1440" cy="304560"/>
          </a:xfrm>
          <a:prstGeom prst="line">
            <a:avLst/>
          </a:prstGeom>
          <a:ln w="19080">
            <a:solidFill>
              <a:srgbClr val="ffff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03840" y="2438280"/>
            <a:ext cx="2146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d"/>
                </a:solidFill>
                <a:latin typeface="Times New Roman"/>
              </a:rPr>
              <a:t>Адсорбирова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d"/>
                </a:solidFill>
                <a:latin typeface="Times New Roman"/>
              </a:rPr>
              <a:t>слой ГМ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6305040" y="3007080"/>
            <a:ext cx="2853720" cy="2854440"/>
            <a:chOff x="6305040" y="3007080"/>
            <a:chExt cx="2853720" cy="2854440"/>
          </a:xfrm>
        </p:grpSpPr>
        <p:sp>
          <p:nvSpPr>
            <p:cNvPr id="1017" name=""/>
            <p:cNvSpPr/>
            <p:nvPr/>
          </p:nvSpPr>
          <p:spPr>
            <a:xfrm>
              <a:off x="6356520" y="3316320"/>
              <a:ext cx="2558520" cy="787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56520" y="4041720"/>
              <a:ext cx="2558520" cy="1501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60800" y="4307040"/>
              <a:ext cx="508680" cy="6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6686640" y="3621240"/>
              <a:ext cx="667080" cy="685800"/>
              <a:chOff x="6686640" y="3621240"/>
              <a:chExt cx="667080" cy="685800"/>
            </a:xfrm>
          </p:grpSpPr>
          <p:sp>
            <p:nvSpPr>
              <p:cNvPr id="1021" name=""/>
              <p:cNvSpPr/>
              <p:nvPr/>
            </p:nvSpPr>
            <p:spPr>
              <a:xfrm>
                <a:off x="6686640" y="3621240"/>
                <a:ext cx="6670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10800" anchor="ctr">
                <a:noAutofit/>
              </a:bodyPr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Fe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I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6200000">
                <a:off x="6813360" y="3803040"/>
                <a:ext cx="19044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•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7998840" y="4307040"/>
              <a:ext cx="508680" cy="6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7924680" y="3621240"/>
              <a:ext cx="667080" cy="685800"/>
              <a:chOff x="7924680" y="3621240"/>
              <a:chExt cx="667080" cy="685800"/>
            </a:xfrm>
          </p:grpSpPr>
          <p:sp>
            <p:nvSpPr>
              <p:cNvPr id="1025" name=""/>
              <p:cNvSpPr/>
              <p:nvPr/>
            </p:nvSpPr>
            <p:spPr>
              <a:xfrm>
                <a:off x="7924680" y="3621240"/>
                <a:ext cx="6670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10800" anchor="ctr">
                <a:noAutofit/>
              </a:bodyPr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Fe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I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6200000">
                <a:off x="8051400" y="3803040"/>
                <a:ext cx="19044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•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 rot="18909600">
              <a:off x="6773760" y="3373920"/>
              <a:ext cx="1915560" cy="21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565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565141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686640" y="5029200"/>
              <a:ext cx="1836360" cy="3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абилизирующ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л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807240" y="4340160"/>
              <a:ext cx="186480" cy="553680"/>
              <a:chOff x="6807240" y="4340160"/>
              <a:chExt cx="186480" cy="553680"/>
            </a:xfrm>
          </p:grpSpPr>
          <p:sp>
            <p:nvSpPr>
              <p:cNvPr id="1030" name=""/>
              <p:cNvSpPr/>
              <p:nvPr/>
            </p:nvSpPr>
            <p:spPr>
              <a:xfrm>
                <a:off x="6826680" y="4340160"/>
                <a:ext cx="14256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7240" y="4373640"/>
                <a:ext cx="18648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2" name=""/>
            <p:cNvGrpSpPr/>
            <p:nvPr/>
          </p:nvGrpSpPr>
          <p:grpSpPr>
            <a:xfrm>
              <a:off x="7056360" y="4340160"/>
              <a:ext cx="187200" cy="553680"/>
              <a:chOff x="7056360" y="4340160"/>
              <a:chExt cx="187200" cy="553680"/>
            </a:xfrm>
          </p:grpSpPr>
          <p:sp>
            <p:nvSpPr>
              <p:cNvPr id="1033" name=""/>
              <p:cNvSpPr/>
              <p:nvPr/>
            </p:nvSpPr>
            <p:spPr>
              <a:xfrm>
                <a:off x="7075800" y="4340160"/>
                <a:ext cx="14292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56360" y="4373640"/>
                <a:ext cx="18720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5" name=""/>
            <p:cNvGrpSpPr/>
            <p:nvPr/>
          </p:nvGrpSpPr>
          <p:grpSpPr>
            <a:xfrm>
              <a:off x="8007480" y="4343400"/>
              <a:ext cx="186480" cy="553680"/>
              <a:chOff x="8007480" y="4343400"/>
              <a:chExt cx="186480" cy="553680"/>
            </a:xfrm>
          </p:grpSpPr>
          <p:sp>
            <p:nvSpPr>
              <p:cNvPr id="1036" name=""/>
              <p:cNvSpPr/>
              <p:nvPr/>
            </p:nvSpPr>
            <p:spPr>
              <a:xfrm>
                <a:off x="8026920" y="4343400"/>
                <a:ext cx="14256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007480" y="4376880"/>
                <a:ext cx="18648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8" name=""/>
            <p:cNvGrpSpPr/>
            <p:nvPr/>
          </p:nvGrpSpPr>
          <p:grpSpPr>
            <a:xfrm>
              <a:off x="8255160" y="4343400"/>
              <a:ext cx="186480" cy="553680"/>
              <a:chOff x="8255160" y="4343400"/>
              <a:chExt cx="186480" cy="553680"/>
            </a:xfrm>
          </p:grpSpPr>
          <p:sp>
            <p:nvSpPr>
              <p:cNvPr id="1039" name=""/>
              <p:cNvSpPr/>
              <p:nvPr/>
            </p:nvSpPr>
            <p:spPr>
              <a:xfrm>
                <a:off x="8274600" y="4343400"/>
                <a:ext cx="14256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255160" y="4376880"/>
                <a:ext cx="186480" cy="52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41" name=""/>
          <p:cNvGrpSpPr/>
          <p:nvPr/>
        </p:nvGrpSpPr>
        <p:grpSpPr>
          <a:xfrm>
            <a:off x="2558880" y="4079880"/>
            <a:ext cx="1733400" cy="406080"/>
            <a:chOff x="2558880" y="4079880"/>
            <a:chExt cx="1733400" cy="406080"/>
          </a:xfrm>
        </p:grpSpPr>
        <p:sp>
          <p:nvSpPr>
            <p:cNvPr id="1042" name=""/>
            <p:cNvSpPr/>
            <p:nvPr/>
          </p:nvSpPr>
          <p:spPr>
            <a:xfrm>
              <a:off x="2903760" y="4079880"/>
              <a:ext cx="1388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+</a:t>
              </a:r>
              <a:r>
                <a:rPr b="0" lang="ru-RU" sz="2200" spc="-1" strike="noStrike">
                  <a:solidFill>
                    <a:srgbClr val="ffffbd"/>
                  </a:solidFill>
                  <a:latin typeface="Times New Roman"/>
                </a:rPr>
                <a:t> ГМД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2558880" y="4114800"/>
              <a:ext cx="480960" cy="371160"/>
              <a:chOff x="2558880" y="4114800"/>
              <a:chExt cx="480960" cy="371160"/>
            </a:xfrm>
          </p:grpSpPr>
          <p:sp>
            <p:nvSpPr>
              <p:cNvPr id="1044" name=""/>
              <p:cNvSpPr/>
              <p:nvPr/>
            </p:nvSpPr>
            <p:spPr>
              <a:xfrm>
                <a:off x="2707920" y="4224600"/>
                <a:ext cx="205200" cy="165600"/>
              </a:xfrm>
              <a:prstGeom prst="ellipse">
                <a:avLst/>
              </a:prstGeom>
              <a:solidFill>
                <a:srgbClr val="ff66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759400" y="4114800"/>
                <a:ext cx="44640" cy="11628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1" y="10"/>
                    </a:lnTo>
                    <a:lnTo>
                      <a:pt x="9" y="14"/>
                    </a:lnTo>
                    <a:lnTo>
                      <a:pt x="1" y="19"/>
                    </a:lnTo>
                    <a:lnTo>
                      <a:pt x="10" y="23"/>
                    </a:lnTo>
                    <a:lnTo>
                      <a:pt x="2" y="27"/>
                    </a:lnTo>
                    <a:lnTo>
                      <a:pt x="10" y="31"/>
                    </a:lnTo>
                    <a:lnTo>
                      <a:pt x="6" y="33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834640" y="4372200"/>
                <a:ext cx="69120" cy="10980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4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2" y="10"/>
                    </a:lnTo>
                    <a:lnTo>
                      <a:pt x="12" y="12"/>
                    </a:lnTo>
                    <a:lnTo>
                      <a:pt x="5" y="18"/>
                    </a:lnTo>
                    <a:lnTo>
                      <a:pt x="14" y="20"/>
                    </a:lnTo>
                    <a:lnTo>
                      <a:pt x="7" y="26"/>
                    </a:lnTo>
                    <a:lnTo>
                      <a:pt x="16" y="28"/>
                    </a:lnTo>
                    <a:lnTo>
                      <a:pt x="13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860560" y="4132800"/>
                <a:ext cx="69120" cy="10584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15" y="0"/>
                    </a:moveTo>
                    <a:lnTo>
                      <a:pt x="10" y="0"/>
                    </a:lnTo>
                    <a:lnTo>
                      <a:pt x="16" y="7"/>
                    </a:lnTo>
                    <a:lnTo>
                      <a:pt x="6" y="7"/>
                    </a:lnTo>
                    <a:lnTo>
                      <a:pt x="13" y="15"/>
                    </a:lnTo>
                    <a:lnTo>
                      <a:pt x="3" y="15"/>
                    </a:lnTo>
                    <a:lnTo>
                      <a:pt x="9" y="23"/>
                    </a:lnTo>
                    <a:lnTo>
                      <a:pt x="0" y="22"/>
                    </a:lnTo>
                    <a:lnTo>
                      <a:pt x="6" y="30"/>
                    </a:lnTo>
                    <a:lnTo>
                      <a:pt x="1" y="30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834640" y="4372200"/>
                <a:ext cx="69120" cy="10980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4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2" y="10"/>
                    </a:lnTo>
                    <a:lnTo>
                      <a:pt x="12" y="12"/>
                    </a:lnTo>
                    <a:lnTo>
                      <a:pt x="5" y="18"/>
                    </a:lnTo>
                    <a:lnTo>
                      <a:pt x="14" y="20"/>
                    </a:lnTo>
                    <a:lnTo>
                      <a:pt x="7" y="26"/>
                    </a:lnTo>
                    <a:lnTo>
                      <a:pt x="16" y="28"/>
                    </a:lnTo>
                    <a:lnTo>
                      <a:pt x="13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834640" y="4372200"/>
                <a:ext cx="69120" cy="10980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4" y="0"/>
                    </a:moveTo>
                    <a:lnTo>
                      <a:pt x="0" y="2"/>
                    </a:lnTo>
                    <a:lnTo>
                      <a:pt x="9" y="4"/>
                    </a:lnTo>
                    <a:lnTo>
                      <a:pt x="2" y="10"/>
                    </a:lnTo>
                    <a:lnTo>
                      <a:pt x="12" y="12"/>
                    </a:lnTo>
                    <a:lnTo>
                      <a:pt x="5" y="18"/>
                    </a:lnTo>
                    <a:lnTo>
                      <a:pt x="14" y="20"/>
                    </a:lnTo>
                    <a:lnTo>
                      <a:pt x="7" y="26"/>
                    </a:lnTo>
                    <a:lnTo>
                      <a:pt x="16" y="28"/>
                    </a:lnTo>
                    <a:lnTo>
                      <a:pt x="13" y="31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903760" y="4341240"/>
                <a:ext cx="136080" cy="8136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1" y="0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6" y="9"/>
                    </a:lnTo>
                    <a:lnTo>
                      <a:pt x="13" y="5"/>
                    </a:lnTo>
                    <a:lnTo>
                      <a:pt x="12" y="13"/>
                    </a:lnTo>
                    <a:lnTo>
                      <a:pt x="19" y="9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4" y="22"/>
                    </a:lnTo>
                    <a:lnTo>
                      <a:pt x="31" y="18"/>
                    </a:lnTo>
                    <a:lnTo>
                      <a:pt x="30" y="23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03760" y="4220640"/>
                <a:ext cx="126720" cy="7380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9" y="3"/>
                    </a:moveTo>
                    <a:lnTo>
                      <a:pt x="25" y="0"/>
                    </a:lnTo>
                    <a:lnTo>
                      <a:pt x="25" y="10"/>
                    </a:lnTo>
                    <a:lnTo>
                      <a:pt x="18" y="4"/>
                    </a:lnTo>
                    <a:lnTo>
                      <a:pt x="18" y="14"/>
                    </a:lnTo>
                    <a:lnTo>
                      <a:pt x="10" y="8"/>
                    </a:lnTo>
                    <a:lnTo>
                      <a:pt x="11" y="18"/>
                    </a:lnTo>
                    <a:lnTo>
                      <a:pt x="3" y="11"/>
                    </a:lnTo>
                    <a:lnTo>
                      <a:pt x="3" y="21"/>
                    </a:lnTo>
                    <a:lnTo>
                      <a:pt x="0" y="18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558880" y="4267080"/>
                <a:ext cx="139680" cy="48960"/>
              </a:xfrm>
              <a:custGeom>
                <a:avLst/>
                <a:gdLst/>
                <a:ahLst/>
                <a:rect l="l" t="t" r="r" b="b"/>
                <a:pathLst>
                  <a:path w="32" h="14">
                    <a:moveTo>
                      <a:pt x="0" y="2"/>
                    </a:moveTo>
                    <a:lnTo>
                      <a:pt x="1" y="7"/>
                    </a:lnTo>
                    <a:lnTo>
                      <a:pt x="7" y="0"/>
                    </a:lnTo>
                    <a:lnTo>
                      <a:pt x="9" y="9"/>
                    </a:lnTo>
                    <a:lnTo>
                      <a:pt x="15" y="2"/>
                    </a:lnTo>
                    <a:lnTo>
                      <a:pt x="17" y="12"/>
                    </a:lnTo>
                    <a:lnTo>
                      <a:pt x="23" y="5"/>
                    </a:lnTo>
                    <a:lnTo>
                      <a:pt x="25" y="14"/>
                    </a:lnTo>
                    <a:lnTo>
                      <a:pt x="31" y="7"/>
                    </a:lnTo>
                    <a:lnTo>
                      <a:pt x="32" y="12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598480" y="4355280"/>
                <a:ext cx="134640" cy="6984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0" y="17"/>
                    </a:moveTo>
                    <a:lnTo>
                      <a:pt x="4" y="20"/>
                    </a:lnTo>
                    <a:lnTo>
                      <a:pt x="4" y="10"/>
                    </a:lnTo>
                    <a:lnTo>
                      <a:pt x="12" y="16"/>
                    </a:lnTo>
                    <a:lnTo>
                      <a:pt x="12" y="7"/>
                    </a:lnTo>
                    <a:lnTo>
                      <a:pt x="19" y="13"/>
                    </a:lnTo>
                    <a:lnTo>
                      <a:pt x="19" y="3"/>
                    </a:lnTo>
                    <a:lnTo>
                      <a:pt x="27" y="9"/>
                    </a:lnTo>
                    <a:lnTo>
                      <a:pt x="27" y="0"/>
                    </a:lnTo>
                    <a:lnTo>
                      <a:pt x="31" y="3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733480" y="4376160"/>
                <a:ext cx="65520" cy="10980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4" y="0"/>
                    </a:moveTo>
                    <a:lnTo>
                      <a:pt x="9" y="1"/>
                    </a:lnTo>
                    <a:lnTo>
                      <a:pt x="15" y="7"/>
                    </a:lnTo>
                    <a:lnTo>
                      <a:pt x="6" y="9"/>
                    </a:lnTo>
                    <a:lnTo>
                      <a:pt x="13" y="15"/>
                    </a:lnTo>
                    <a:lnTo>
                      <a:pt x="3" y="16"/>
                    </a:lnTo>
                    <a:lnTo>
                      <a:pt x="10" y="22"/>
                    </a:lnTo>
                    <a:lnTo>
                      <a:pt x="0" y="24"/>
                    </a:lnTo>
                    <a:lnTo>
                      <a:pt x="7" y="30"/>
                    </a:lnTo>
                    <a:lnTo>
                      <a:pt x="2" y="31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16120" y="4181760"/>
                <a:ext cx="117360" cy="709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0"/>
                    </a:moveTo>
                    <a:lnTo>
                      <a:pt x="0" y="4"/>
                    </a:lnTo>
                    <a:lnTo>
                      <a:pt x="7" y="1"/>
                    </a:lnTo>
                    <a:lnTo>
                      <a:pt x="6" y="9"/>
                    </a:lnTo>
                    <a:lnTo>
                      <a:pt x="14" y="6"/>
                    </a:lnTo>
                    <a:lnTo>
                      <a:pt x="13" y="14"/>
                    </a:lnTo>
                    <a:lnTo>
                      <a:pt x="21" y="11"/>
                    </a:lnTo>
                    <a:lnTo>
                      <a:pt x="20" y="19"/>
                    </a:lnTo>
                    <a:lnTo>
                      <a:pt x="27" y="15"/>
                    </a:lnTo>
                    <a:lnTo>
                      <a:pt x="27" y="20"/>
                    </a:lnTo>
                  </a:path>
                </a:pathLst>
              </a:custGeom>
              <a:noFill/>
              <a:ln w="648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ECA-7F2F-4356-8F12-D1BF361114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"/>
          <p:cNvGrpSpPr/>
          <p:nvPr/>
        </p:nvGrpSpPr>
        <p:grpSpPr>
          <a:xfrm>
            <a:off x="495360" y="2133720"/>
            <a:ext cx="3796920" cy="1295280"/>
            <a:chOff x="495360" y="2133720"/>
            <a:chExt cx="3796920" cy="1295280"/>
          </a:xfrm>
        </p:grpSpPr>
        <p:sp>
          <p:nvSpPr>
            <p:cNvPr id="1057" name=""/>
            <p:cNvSpPr/>
            <p:nvPr/>
          </p:nvSpPr>
          <p:spPr>
            <a:xfrm>
              <a:off x="642960" y="2133720"/>
              <a:ext cx="3649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Модифицирование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«прямой» метод           6 вес.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«перекисный»             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мето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688760" y="2854080"/>
              <a:ext cx="2044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730960" y="2701800"/>
              <a:ext cx="41436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724120" y="3011400"/>
              <a:ext cx="414000" cy="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5360" y="2628720"/>
              <a:ext cx="119880" cy="110880"/>
            </a:xfrm>
            <a:prstGeom prst="rect">
              <a:avLst/>
            </a:prstGeom>
            <a:solidFill>
              <a:srgbClr val="ff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5360" y="2971800"/>
              <a:ext cx="119880" cy="110520"/>
            </a:xfrm>
            <a:prstGeom prst="rect">
              <a:avLst/>
            </a:prstGeom>
            <a:solidFill>
              <a:srgbClr val="ff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2146320" y="152280"/>
            <a:ext cx="4952520" cy="762120"/>
            <a:chOff x="2146320" y="152280"/>
            <a:chExt cx="4952520" cy="762120"/>
          </a:xfrm>
        </p:grpSpPr>
        <p:sp>
          <p:nvSpPr>
            <p:cNvPr id="1064" name=""/>
            <p:cNvSpPr/>
            <p:nvPr/>
          </p:nvSpPr>
          <p:spPr>
            <a:xfrm>
              <a:off x="2412000" y="179280"/>
              <a:ext cx="437940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Модифицирующие слои на основе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акриламида </a:t>
              </a: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 (</a:t>
              </a:r>
              <a:r>
                <a:rPr b="0" lang="ru-RU" sz="2200" spc="-1" strike="noStrike">
                  <a:solidFill>
                    <a:srgbClr val="ffff00"/>
                  </a:solidFill>
                  <a:latin typeface="Times New Roman"/>
                </a:rPr>
                <a:t>АА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46320" y="152280"/>
              <a:ext cx="4952520" cy="76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825480" y="1066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Исходная молекула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А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55600" y="144792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ffffbd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=CH(O)NH</a:t>
            </a:r>
            <a:r>
              <a:rPr b="0" lang="en-US" sz="2000" spc="-1" strike="noStrike" baseline="-25000">
                <a:solidFill>
                  <a:srgbClr val="ffffb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943600" y="4038480"/>
            <a:ext cx="2846520" cy="117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943600" y="5181480"/>
            <a:ext cx="284652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016760" y="5257800"/>
            <a:ext cx="564840" cy="606240"/>
            <a:chOff x="7016760" y="5257800"/>
            <a:chExt cx="564840" cy="606240"/>
          </a:xfrm>
        </p:grpSpPr>
        <p:sp>
          <p:nvSpPr>
            <p:cNvPr id="1071" name=""/>
            <p:cNvSpPr/>
            <p:nvPr/>
          </p:nvSpPr>
          <p:spPr>
            <a:xfrm>
              <a:off x="7016760" y="5257800"/>
              <a:ext cx="564840" cy="60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7085160" y="5294160"/>
              <a:ext cx="185400" cy="553680"/>
              <a:chOff x="7085160" y="5294160"/>
              <a:chExt cx="185400" cy="553680"/>
            </a:xfrm>
          </p:grpSpPr>
          <p:sp>
            <p:nvSpPr>
              <p:cNvPr id="1073" name=""/>
              <p:cNvSpPr/>
              <p:nvPr/>
            </p:nvSpPr>
            <p:spPr>
              <a:xfrm>
                <a:off x="7104240" y="5294160"/>
                <a:ext cx="14148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5160" y="5327640"/>
                <a:ext cx="185400" cy="52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5" name=""/>
            <p:cNvGrpSpPr/>
            <p:nvPr/>
          </p:nvGrpSpPr>
          <p:grpSpPr>
            <a:xfrm>
              <a:off x="7337880" y="5294160"/>
              <a:ext cx="185040" cy="553680"/>
              <a:chOff x="7337880" y="5294160"/>
              <a:chExt cx="185040" cy="553680"/>
            </a:xfrm>
          </p:grpSpPr>
          <p:sp>
            <p:nvSpPr>
              <p:cNvPr id="1076" name=""/>
              <p:cNvSpPr/>
              <p:nvPr/>
            </p:nvSpPr>
            <p:spPr>
              <a:xfrm>
                <a:off x="7356960" y="5294160"/>
                <a:ext cx="141480" cy="118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7880" y="5327640"/>
                <a:ext cx="185040" cy="52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8" name=""/>
          <p:cNvSpPr/>
          <p:nvPr/>
        </p:nvSpPr>
        <p:spPr>
          <a:xfrm>
            <a:off x="6769080" y="4495680"/>
            <a:ext cx="1155600" cy="79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10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=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Fe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889680" y="4833720"/>
            <a:ext cx="655200" cy="152640"/>
            <a:chOff x="6889680" y="4833720"/>
            <a:chExt cx="655200" cy="152640"/>
          </a:xfrm>
        </p:grpSpPr>
        <p:sp>
          <p:nvSpPr>
            <p:cNvPr id="1080" name=""/>
            <p:cNvSpPr/>
            <p:nvPr/>
          </p:nvSpPr>
          <p:spPr>
            <a:xfrm rot="16200000">
              <a:off x="6915960" y="4807440"/>
              <a:ext cx="1486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7369560" y="4811040"/>
              <a:ext cx="14904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438960" y="6019920"/>
            <a:ext cx="1836720" cy="38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билизирующ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521400" y="4191120"/>
            <a:ext cx="166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акрилам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5778360" y="1143000"/>
          <a:ext cx="3243240" cy="261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8360" y="1143000"/>
                    <a:ext cx="3243240" cy="26100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6" name=""/>
          <p:cNvSpPr/>
          <p:nvPr/>
        </p:nvSpPr>
        <p:spPr>
          <a:xfrm>
            <a:off x="6603840" y="1219320"/>
            <a:ext cx="41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1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38960" y="3429000"/>
            <a:ext cx="16621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нергия связи, э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7264440" y="2514600"/>
            <a:ext cx="1199880" cy="420480"/>
            <a:chOff x="7264440" y="2514600"/>
            <a:chExt cx="1199880" cy="420480"/>
          </a:xfrm>
        </p:grpSpPr>
        <p:grpSp>
          <p:nvGrpSpPr>
            <p:cNvPr id="1089" name=""/>
            <p:cNvGrpSpPr/>
            <p:nvPr/>
          </p:nvGrpSpPr>
          <p:grpSpPr>
            <a:xfrm>
              <a:off x="7264440" y="2514600"/>
              <a:ext cx="455400" cy="420480"/>
              <a:chOff x="7264440" y="2514600"/>
              <a:chExt cx="455400" cy="420480"/>
            </a:xfrm>
          </p:grpSpPr>
          <p:pic>
            <p:nvPicPr>
              <p:cNvPr id="109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64440" y="2514600"/>
                <a:ext cx="455400" cy="42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427160" y="2668320"/>
                <a:ext cx="143280" cy="13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2" name=""/>
            <p:cNvSpPr/>
            <p:nvPr/>
          </p:nvSpPr>
          <p:spPr>
            <a:xfrm>
              <a:off x="7682040" y="2590560"/>
              <a:ext cx="782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АА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обл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487680" y="41911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64000" y="491796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47680" y="3733920"/>
            <a:ext cx="4708080" cy="2819160"/>
            <a:chOff x="247680" y="3733920"/>
            <a:chExt cx="4708080" cy="2819160"/>
          </a:xfrm>
        </p:grpSpPr>
        <p:sp>
          <p:nvSpPr>
            <p:cNvPr id="1096" name=""/>
            <p:cNvSpPr/>
            <p:nvPr/>
          </p:nvSpPr>
          <p:spPr>
            <a:xfrm>
              <a:off x="247680" y="3733920"/>
              <a:ext cx="4704840" cy="2819160"/>
            </a:xfrm>
            <a:prstGeom prst="rect">
              <a:avLst/>
            </a:prstGeom>
            <a:solidFill>
              <a:srgbClr val="ffffd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7" name=""/>
            <p:cNvGraphicFramePr/>
            <p:nvPr/>
          </p:nvGraphicFramePr>
          <p:xfrm>
            <a:off x="2723760" y="3733920"/>
            <a:ext cx="2232000" cy="2819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23760" y="3733920"/>
                      <a:ext cx="2232000" cy="28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9" name=""/>
            <p:cNvGraphicFramePr/>
            <p:nvPr/>
          </p:nvGraphicFramePr>
          <p:xfrm>
            <a:off x="247680" y="3733920"/>
            <a:ext cx="1956600" cy="2816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0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7680" y="3733920"/>
                      <a:ext cx="1956600" cy="28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1" name=""/>
            <p:cNvGrpSpPr/>
            <p:nvPr/>
          </p:nvGrpSpPr>
          <p:grpSpPr>
            <a:xfrm>
              <a:off x="2063520" y="4343400"/>
              <a:ext cx="495000" cy="457200"/>
              <a:chOff x="2063520" y="4343400"/>
              <a:chExt cx="495000" cy="457200"/>
            </a:xfrm>
          </p:grpSpPr>
          <p:pic>
            <p:nvPicPr>
              <p:cNvPr id="110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63520" y="4343400"/>
                <a:ext cx="4950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40640" y="4510440"/>
                <a:ext cx="155880" cy="142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4" name=""/>
            <p:cNvGrpSpPr/>
            <p:nvPr/>
          </p:nvGrpSpPr>
          <p:grpSpPr>
            <a:xfrm>
              <a:off x="1568160" y="5105520"/>
              <a:ext cx="1650240" cy="420480"/>
              <a:chOff x="1568160" y="5105520"/>
              <a:chExt cx="1650240" cy="420480"/>
            </a:xfrm>
          </p:grpSpPr>
          <p:grpSp>
            <p:nvGrpSpPr>
              <p:cNvPr id="1105" name=""/>
              <p:cNvGrpSpPr/>
              <p:nvPr/>
            </p:nvGrpSpPr>
            <p:grpSpPr>
              <a:xfrm>
                <a:off x="1568160" y="5105520"/>
                <a:ext cx="455400" cy="420480"/>
                <a:chOff x="1568160" y="5105520"/>
                <a:chExt cx="455400" cy="420480"/>
              </a:xfrm>
            </p:grpSpPr>
            <p:pic>
              <p:nvPicPr>
                <p:cNvPr id="110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568160" y="5105520"/>
                  <a:ext cx="455400" cy="420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30880" y="5259240"/>
                  <a:ext cx="143280" cy="131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08" name=""/>
              <p:cNvSpPr/>
              <p:nvPr/>
            </p:nvSpPr>
            <p:spPr>
              <a:xfrm>
                <a:off x="1983960" y="5181480"/>
                <a:ext cx="1234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АА+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обл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"/>
            <p:cNvSpPr/>
            <p:nvPr/>
          </p:nvSpPr>
          <p:spPr>
            <a:xfrm>
              <a:off x="825480" y="380988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1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66800" y="3809880"/>
              <a:ext cx="38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2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14040" y="6095880"/>
              <a:ext cx="161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Энергия связи, э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7800" y="3733920"/>
              <a:ext cx="420948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7346880" y="1828800"/>
            <a:ext cx="412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608-399D-47CE-BFB6-BC375D2E06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450440" y="306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ОСНОВНЫЕ РЕЗУЛЬТАТЫ И ВЫВ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577800" y="1219320"/>
            <a:ext cx="899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7304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 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На основании комплексных исследований установлены закономерности формирования стабилизирующих слоев на основе ненасыщенных ПАВ  (олеиновая кислота и спирт –изофитол) на поверхности полученных </a:t>
            </a:r>
            <a:r>
              <a:rPr b="0" lang="ru-RU" sz="2200" spc="-1" strike="noStrike">
                <a:solidFill>
                  <a:srgbClr val="66ffff"/>
                </a:solidFill>
                <a:latin typeface="Times New Roman"/>
              </a:rPr>
              <a:t>электролитическим осаждением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 частиц железа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10000"/>
              </a:lnSpc>
              <a:spcBef>
                <a:spcPts val="550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показано, что стабилизирующий слой представляет  собой  хемосорбированный плотноупакованный сополимер ПАВ с кислородам.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лучае конкурентной адсорбции изофитол формирует внешний слой стабилизирующего покрытия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;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lnSpc>
                <a:spcPct val="110000"/>
              </a:lnSpc>
              <a:spcBef>
                <a:spcPts val="550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установлено, что  к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боксилатные комплексы железа с соотношением лиганд-металл 1:1 образуются как на границе с оксидной пленкой на поверхности частиц, так и на внешней поверхности стабилизирующего покрытия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E4F-07C3-461B-A2FA-2228AAB372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87480" y="1066680"/>
            <a:ext cx="1008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Частицы железа, полученные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электролитическим осажд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из раствора 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FeSO</a:t>
            </a:r>
            <a:r>
              <a:rPr b="0" lang="en-US" sz="2400" spc="-1" strike="noStrike" baseline="-25000">
                <a:solidFill>
                  <a:srgbClr val="ffffbd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и стабилизированные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ненасыщенными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ПАВ -   олеиновой кислотой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(С</a:t>
            </a:r>
            <a:r>
              <a:rPr b="0" lang="en-US" sz="2400" spc="-1" strike="noStrike" baseline="-25000">
                <a:solidFill>
                  <a:srgbClr val="ffffbd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bd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C(O)OH)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и спиртом-изофитолом (С</a:t>
            </a:r>
            <a:r>
              <a:rPr b="0" lang="en-US" sz="2400" spc="-1" strike="noStrike" baseline="-25000">
                <a:solidFill>
                  <a:srgbClr val="ffffbd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bd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COH)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из раствора в гекса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Частицы железа, полученные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восстановлением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FeOOH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в токе водорода при </a:t>
            </a:r>
            <a:r>
              <a:rPr b="0" lang="en-US" sz="2400" spc="-1" strike="noStrike">
                <a:solidFill>
                  <a:srgbClr val="ffffbd"/>
                </a:solidFill>
                <a:latin typeface="Times New Roman"/>
              </a:rPr>
              <a:t>38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0°С в течение 1, 3 и 5 часов и стабилизированные олеиновой кислотой (ОК), акриламидом (АА) и гексаметилендиамином (ГМ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Модифицированные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органическими  азот- и кремний содержащими соединениями (метилвинилдихлорсисан, 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γ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-аминопропилтриэтоксисилан, гексаметилендиамин, акриламид) стабилизированные олеиновой кислотой частицы железа, полученные электролитическим осажд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60240" y="30492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ОБЪЕКТЫ  ИССЛЕД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191-A9E3-4CA0-8C67-FA59A03AF8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/>
          </p:nvPr>
        </p:nvSpPr>
        <p:spPr>
          <a:xfrm>
            <a:off x="577800" y="533160"/>
            <a:ext cx="8871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Для частиц железа, полученных </a:t>
            </a:r>
            <a:r>
              <a:rPr b="0" lang="ru-RU" sz="2200" spc="-1" strike="noStrike">
                <a:solidFill>
                  <a:srgbClr val="66ffff"/>
                </a:solidFill>
                <a:latin typeface="Times New Roman"/>
              </a:rPr>
              <a:t>восстановлением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гидрокси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железа в токе водорода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ри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8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°С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показана динамика изменения структурно- фазового состава поверхностного слоя частиц на различных  стадиях процесса. Структура формирующегося поверхностного оксидного слоя частиц является определяющей при формировании стабилизирующего слоя олеиновой кислот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выявлены  механизмы формирования стабилизирующих слоев на основе азотсодержащих органических веществ (гексаметилендиамин,  акриламид) . При формировании стабилизирующего слоя из раствора гексаметилендиамина в хемосорбционном взаимодействии участвует всего лишь одна аминогруппа. Акриламид сам не образует хемосорбционного стабилизирующего слоя на поверхности частиц железа, но обеспечивает перестройку поверхностного оксидного  слоя частиц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выявлена зависимость коррозионного поведения частиц от строения стабилизирующего слоя, сформированного на поверхности частиц желез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C8E-181F-4AC0-97D8-6D4E6CD57D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742680" y="609480"/>
            <a:ext cx="8420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I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следованы особенности иммобилизации  азот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кремни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с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ержащих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дифицирующих веществ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(винилметидихлорсилан,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γ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аминопропилтриэтоксисилан, гексаметилендиамин, акриламид) на поверхности стабилизированных олеиновой кислотой частиц железа, а также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оение модифицирующих слоев на основе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этих соединений, что придает частицам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различные функциональные свойства.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зано, что природа модифицирующих агентов, среда и условия проведения прививки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пределяют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лщину и физико-химическое строение модифицирующих слоев. Варьируя эти условия можно управлять формированием модифицирующих слоев на поверхности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табилизированны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частиц желе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C2C-C969-4D04-B1DE-6C7006BE9C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77800" y="380880"/>
            <a:ext cx="866772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В ходе проведенных исследований  разработаны новые подходы и методики для анализа межфазных и поверхностных слоев в композиционных системах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Развиты методики математической обработки рентгеновских фотоэлектронных спектров, основанной на рассмотрении получаемых экспериментальных данных как некорректной задачи, для решения которой был использован метод Фурье 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применением алгоритма регуляризации по Тихонову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Проведен анализ корректности применения селективной химической реакции бромирования  для анализа кратных С-С связей  по данным рентгеновской фотоэлектронной спектроскоп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Предложена методика исследования тонких поверхностных слоев частиц методом Мессбауэровской спектроскопии, которая основана на получении частиц  из изотопа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e</a:t>
            </a:r>
            <a:r>
              <a:rPr b="0" lang="en-US" sz="2200" spc="-1" strike="noStrike" baseline="30000">
                <a:solidFill>
                  <a:srgbClr val="ffff00"/>
                </a:solidFill>
                <a:latin typeface="Times New Roman"/>
              </a:rPr>
              <a:t>56</a:t>
            </a:r>
            <a:r>
              <a:rPr b="0" lang="ru-RU" sz="2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с поверхностным слоем из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e</a:t>
            </a:r>
            <a:r>
              <a:rPr b="0" lang="ru-RU" sz="2200" spc="-1" strike="noStrike" baseline="30000">
                <a:solidFill>
                  <a:srgbClr val="ffff00"/>
                </a:solidFill>
                <a:latin typeface="Times New Roman"/>
              </a:rPr>
              <a:t>57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104-3E7E-4076-8822-2594A0265B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1659600" y="457200"/>
            <a:ext cx="55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ДОСТОВЕРНОСТЬ  НАУЧ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ПОЛОЖЕНИЙ И  ВЫВ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08200" y="1843200"/>
            <a:ext cx="74689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обеспечивает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10000"/>
              </a:lnSpc>
              <a:buClr>
                <a:srgbClr val="ffffd7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оспроизводимостью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 результатов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проведенных в одних и тех же услов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10000"/>
              </a:lnSpc>
              <a:buClr>
                <a:srgbClr val="ffffd7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использованием контролируемых и апробированных методов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 и 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методик, отработанных на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 модельных объектах и модельных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аттестованных веществах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 с известной формулой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10000"/>
              </a:lnSpc>
              <a:buClr>
                <a:srgbClr val="ffffd7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использованием комплекса  различных экспериментальных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методов дающих непротиворечивые экспериментальные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 р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езультаты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;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10000"/>
              </a:lnSpc>
              <a:buClr>
                <a:srgbClr val="ffffd7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согласованностью с приведенными в научной литератур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d7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d7"/>
                </a:solidFill>
                <a:latin typeface="Times New Roman"/>
                <a:ea typeface="Times New Roman"/>
              </a:rPr>
              <a:t>данны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DC2-21CC-44FC-863E-9709AFCF67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2171160" y="70740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АКТУАЛЬНОСТЬ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/>
          </p:nvPr>
        </p:nvSpPr>
        <p:spPr>
          <a:xfrm>
            <a:off x="743040" y="1371600"/>
            <a:ext cx="825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100000"/>
              </a:lnSpc>
              <a:buClr>
                <a:srgbClr val="ffffc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9"/>
                </a:solidFill>
                <a:latin typeface="Arial"/>
                <a:ea typeface="Times New Roman"/>
              </a:rPr>
              <a:t>Развитие представлений</a:t>
            </a:r>
            <a:r>
              <a:rPr b="1" lang="en-US" sz="2200" spc="-1" strike="noStrike">
                <a:solidFill>
                  <a:srgbClr val="ffffc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c9"/>
                </a:solidFill>
                <a:latin typeface="Times New Roman"/>
              </a:rPr>
              <a:t>о формировании межфазных и стабилизирующих защитных слоев на основе органических соединений на поверхности частиц металл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ffffc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9"/>
                </a:solidFill>
                <a:latin typeface="Arial"/>
                <a:ea typeface="Times New Roman"/>
              </a:rPr>
              <a:t>Развитие представлений</a:t>
            </a:r>
            <a:r>
              <a:rPr b="1" lang="en-US" sz="2200" spc="-1" strike="noStrike">
                <a:solidFill>
                  <a:srgbClr val="ffffc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c9"/>
                </a:solidFill>
                <a:latin typeface="Times New Roman"/>
              </a:rPr>
              <a:t>о формировании на поверхности стабилизированных частиц модифицирующих слоев органических соединений в зависимости от условий и методов их получ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buClr>
                <a:srgbClr val="ffffc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9"/>
                </a:solidFill>
                <a:latin typeface="Times New Roman"/>
              </a:rPr>
              <a:t>Возможность управления пассивацией металлических частиц и целенаправленной модификации их поверхности для получения частиц с требуемыми свойств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699-6D38-4EEE-A9C1-CE785652D2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9000" y="333000"/>
            <a:ext cx="8420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ОСНОВНЫЕ МЕТОДЫ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0880" y="2286000"/>
            <a:ext cx="994680" cy="459720"/>
          </a:xfrm>
          <a:prstGeom prst="rect">
            <a:avLst/>
          </a:prstGeom>
          <a:solidFill>
            <a:srgbClr val="ffe1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РФЭ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800" y="3048120"/>
            <a:ext cx="2381400" cy="678600"/>
          </a:xfrm>
          <a:prstGeom prst="rect">
            <a:avLst/>
          </a:prstGeom>
          <a:solidFill>
            <a:srgbClr val="ffe1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ИК -спектр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3880" y="2286000"/>
            <a:ext cx="987120" cy="459720"/>
          </a:xfrm>
          <a:prstGeom prst="rect">
            <a:avLst/>
          </a:prstGeom>
          <a:solidFill>
            <a:srgbClr val="ffe1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А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8840" y="1295280"/>
            <a:ext cx="2393640" cy="457200"/>
          </a:xfrm>
          <a:prstGeom prst="rect">
            <a:avLst/>
          </a:prstGeom>
          <a:solidFill>
            <a:srgbClr val="ffff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ъем части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46160" y="2209680"/>
            <a:ext cx="2440800" cy="7520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ессбауэров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пектр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54200" y="2209680"/>
            <a:ext cx="2474280" cy="7520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Рентгенофазов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анал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19520" y="2801880"/>
            <a:ext cx="392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86240" y="2944800"/>
            <a:ext cx="430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7280" y="3200400"/>
            <a:ext cx="5943600" cy="1093320"/>
          </a:xfrm>
          <a:prstGeom prst="rect">
            <a:avLst/>
          </a:prstGeom>
          <a:solidFill>
            <a:srgbClr val="ebd7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Защитная способность стабилизирующих слоев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определялась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по коррозионной  устойчивости полученных частиц в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,85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вес.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%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растворе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2920" y="4495680"/>
            <a:ext cx="93614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68520" y="4648320"/>
            <a:ext cx="6851520" cy="457200"/>
          </a:xfrm>
          <a:prstGeom prst="rect">
            <a:avLst/>
          </a:prstGeom>
          <a:solidFill>
            <a:srgbClr val="c1ff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Развитие дополнительных методик и подх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0120" y="5562720"/>
            <a:ext cx="2146320" cy="844920"/>
          </a:xfrm>
          <a:prstGeom prst="rect">
            <a:avLst/>
          </a:prstGeom>
          <a:solidFill>
            <a:srgbClr val="c1ff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Математическая обработка РФЭС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5562720"/>
            <a:ext cx="3384720" cy="844920"/>
          </a:xfrm>
          <a:prstGeom prst="rect">
            <a:avLst/>
          </a:prstGeom>
          <a:solidFill>
            <a:srgbClr val="c1ff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Методика  селектив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химических реакций (СХР) в РФЭ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56520" y="5562720"/>
            <a:ext cx="3301920" cy="1119240"/>
          </a:xfrm>
          <a:prstGeom prst="rect">
            <a:avLst/>
          </a:prstGeom>
          <a:solidFill>
            <a:srgbClr val="c1ff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Методика 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поверхностных сло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методом Мессбауэровской спектроскоп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7920" y="990720"/>
            <a:ext cx="8337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9400" y="1295280"/>
            <a:ext cx="4149360" cy="459720"/>
          </a:xfrm>
          <a:prstGeom prst="rect">
            <a:avLst/>
          </a:prstGeom>
          <a:solidFill>
            <a:srgbClr val="ffff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верхностные слои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1787400"/>
            <a:ext cx="152280" cy="381240"/>
          </a:xfrm>
          <a:prstGeom prst="downArrow">
            <a:avLst>
              <a:gd name="adj1" fmla="val 50000"/>
              <a:gd name="adj2" fmla="val 6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82880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4469400">
            <a:off x="5725440" y="1284840"/>
            <a:ext cx="131760" cy="1371600"/>
          </a:xfrm>
          <a:prstGeom prst="downArrow">
            <a:avLst>
              <a:gd name="adj1" fmla="val 50000"/>
              <a:gd name="adj2" fmla="val 260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4469400">
            <a:off x="2143800" y="4637520"/>
            <a:ext cx="131760" cy="1371600"/>
          </a:xfrm>
          <a:prstGeom prst="downArrow">
            <a:avLst>
              <a:gd name="adj1" fmla="val 50000"/>
              <a:gd name="adj2" fmla="val 260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828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514188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964400">
            <a:off x="7097040" y="4637520"/>
            <a:ext cx="131760" cy="1371600"/>
          </a:xfrm>
          <a:prstGeom prst="downArrow">
            <a:avLst>
              <a:gd name="adj1" fmla="val 50000"/>
              <a:gd name="adj2" fmla="val 2602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8DC-FEC0-4E73-B2CC-5DEC8249C2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30120" y="1981080"/>
          <a:ext cx="9126720" cy="2183040"/>
        </p:xfrm>
        <a:graphic>
          <a:graphicData uri="http://schemas.openxmlformats.org/drawingml/2006/table">
            <a:tbl>
              <a:tblPr/>
              <a:tblGrid>
                <a:gridCol w="1797120"/>
                <a:gridCol w="1347840"/>
                <a:gridCol w="1857240"/>
                <a:gridCol w="917640"/>
                <a:gridCol w="914400"/>
                <a:gridCol w="1246320"/>
                <a:gridCol w="10461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овый соста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см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л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Fe - 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0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к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1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Fe~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30120" y="4465800"/>
            <a:ext cx="94107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3040" indent="-3713040">
              <a:lnSpc>
                <a:spcPct val="9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d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средний размер частиц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 (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электронномикроскопические  данные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13040" indent="-3713040">
              <a:lnSpc>
                <a:spcPct val="9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S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 удельная поверх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13040" indent="-3713040">
              <a:lnSpc>
                <a:spcPct val="9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 коэрцитивная си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13040" indent="-3713040">
              <a:lnSpc>
                <a:spcPct val="9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М - намагниченн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13040" indent="-3713040">
              <a:lnSpc>
                <a:spcPct val="9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Т  - температура начала окисления (данные ДТА анализ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13040" indent="-3713040">
              <a:lnSpc>
                <a:spcPct val="9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*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 - по данным Мессбауэровской спектроскоп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13040" indent="-3713040">
              <a:lnSpc>
                <a:spcPct val="9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bd"/>
                </a:solidFill>
                <a:latin typeface="Times New Roman"/>
              </a:rPr>
              <a:t>** - </a:t>
            </a:r>
            <a:r>
              <a:rPr b="0" lang="ru-RU" sz="2200" spc="-1" strike="noStrike">
                <a:solidFill>
                  <a:srgbClr val="ffffbd"/>
                </a:solidFill>
                <a:latin typeface="Times New Roman"/>
              </a:rPr>
              <a:t>по данным электронной микроскоп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4800" y="5249880"/>
            <a:ext cx="19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3040" y="228600"/>
            <a:ext cx="85453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войства частиц железа, полученных электролитическ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саждением и восстановлением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токе водорода при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8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°С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стабилизированных олеиновой кисло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92D-1E99-405D-9B67-1377D87861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12920" y="1219320"/>
            <a:ext cx="9245160" cy="4833720"/>
            <a:chOff x="412920" y="1219320"/>
            <a:chExt cx="9245160" cy="4833720"/>
          </a:xfrm>
        </p:grpSpPr>
        <p:grpSp>
          <p:nvGrpSpPr>
            <p:cNvPr id="85" name=""/>
            <p:cNvGrpSpPr/>
            <p:nvPr/>
          </p:nvGrpSpPr>
          <p:grpSpPr>
            <a:xfrm>
              <a:off x="578160" y="1219320"/>
              <a:ext cx="2558160" cy="3882960"/>
              <a:chOff x="578160" y="1219320"/>
              <a:chExt cx="2558160" cy="3882960"/>
            </a:xfrm>
          </p:grpSpPr>
          <p:graphicFrame>
            <p:nvGraphicFramePr>
              <p:cNvPr id="86" name=""/>
              <p:cNvGraphicFramePr/>
              <p:nvPr/>
            </p:nvGraphicFramePr>
            <p:xfrm>
              <a:off x="578160" y="1219320"/>
              <a:ext cx="2558160" cy="1917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78160" y="1219320"/>
                        <a:ext cx="2558160" cy="191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" name=""/>
              <p:cNvGraphicFramePr/>
              <p:nvPr/>
            </p:nvGraphicFramePr>
            <p:xfrm>
              <a:off x="578160" y="3500640"/>
              <a:ext cx="2558160" cy="1601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78160" y="3500640"/>
                        <a:ext cx="2558160" cy="160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0" name=""/>
            <p:cNvSpPr/>
            <p:nvPr/>
          </p:nvSpPr>
          <p:spPr>
            <a:xfrm>
              <a:off x="3735720" y="1905120"/>
              <a:ext cx="2457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Режим топографии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0520" y="4114800"/>
              <a:ext cx="3042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bd"/>
                  </a:solidFill>
                  <a:latin typeface="Times New Roman"/>
                </a:rPr>
                <a:t>Режим латеральных си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920" y="5486400"/>
              <a:ext cx="28893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Восстановление в токе водорода</a:t>
              </a:r>
              <a:r>
                <a:rPr b="0" lang="en-US" sz="2400" spc="-1" strike="noStrike">
                  <a:solidFill>
                    <a:srgbClr val="cc66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521400" y="1219320"/>
              <a:ext cx="2759400" cy="3887640"/>
              <a:chOff x="6521400" y="1219320"/>
              <a:chExt cx="2759400" cy="3887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6724080" y="1219320"/>
              <a:ext cx="2556720" cy="1987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724080" y="1219320"/>
                        <a:ext cx="2556720" cy="1987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6" name=""/>
              <p:cNvGraphicFramePr/>
              <p:nvPr/>
            </p:nvGraphicFramePr>
            <p:xfrm>
              <a:off x="6521400" y="3506760"/>
              <a:ext cx="2728800" cy="1600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521400" y="3506760"/>
                        <a:ext cx="272880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8" name=""/>
            <p:cNvSpPr/>
            <p:nvPr/>
          </p:nvSpPr>
          <p:spPr>
            <a:xfrm>
              <a:off x="6438960" y="5410440"/>
              <a:ext cx="321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Электролитическое осажд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04560"/>
            <a:ext cx="718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АСМ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изображение полученных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 Fe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части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43F-168A-4926-A01F-2D0CDDAB3E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12920" y="914400"/>
            <a:ext cx="4375080" cy="2666880"/>
          </a:xfrm>
          <a:prstGeom prst="rect">
            <a:avLst/>
          </a:prstGeom>
          <a:solidFill>
            <a:srgbClr val="ffff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5240" y="3809880"/>
          <a:ext cx="5035320" cy="1433520"/>
        </p:xfrm>
        <a:graphic>
          <a:graphicData uri="http://schemas.openxmlformats.org/drawingml/2006/table">
            <a:tbl>
              <a:tblPr/>
              <a:tblGrid>
                <a:gridCol w="1909800"/>
                <a:gridCol w="1041120"/>
                <a:gridCol w="1160640"/>
                <a:gridCol w="923760"/>
              </a:tblGrid>
              <a:tr h="3502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эф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Э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мм/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мм/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3675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стет 1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(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4125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стет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F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  <a:tr h="3675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б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30120" y="5638680"/>
            <a:ext cx="528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7680" y="5257800"/>
            <a:ext cx="5448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d"/>
                </a:solidFill>
                <a:latin typeface="Times New Roman"/>
              </a:rPr>
              <a:t>H</a:t>
            </a:r>
            <a:r>
              <a:rPr b="0" lang="ru-RU" sz="2000" spc="-1" strike="noStrike" baseline="-25000">
                <a:solidFill>
                  <a:srgbClr val="ffffbd"/>
                </a:solidFill>
                <a:latin typeface="Times New Roman"/>
              </a:rPr>
              <a:t>эфф</a:t>
            </a:r>
            <a:r>
              <a:rPr b="0" lang="ru-RU" sz="24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эффективное поле на яд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δ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– изомерный сдви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Δ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 – квадрупольное расщеп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(О.М.Михайлик и др. ЖПХ, №11, 2414 (198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108840" y="4038480"/>
            <a:ext cx="3301560" cy="2210040"/>
            <a:chOff x="6108840" y="4038480"/>
            <a:chExt cx="3301560" cy="2210040"/>
          </a:xfrm>
        </p:grpSpPr>
        <p:sp>
          <p:nvSpPr>
            <p:cNvPr id="105" name=""/>
            <p:cNvSpPr/>
            <p:nvPr/>
          </p:nvSpPr>
          <p:spPr>
            <a:xfrm>
              <a:off x="6108840" y="4038480"/>
              <a:ext cx="3301560" cy="22100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191280" y="4114800"/>
              <a:ext cx="3110400" cy="1953000"/>
              <a:chOff x="6191280" y="4114800"/>
              <a:chExt cx="3110400" cy="1953000"/>
            </a:xfrm>
          </p:grpSpPr>
          <p:sp>
            <p:nvSpPr>
              <p:cNvPr id="107" name=""/>
              <p:cNvSpPr/>
              <p:nvPr/>
            </p:nvSpPr>
            <p:spPr>
              <a:xfrm>
                <a:off x="8467560" y="5407560"/>
                <a:ext cx="8341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04840" y="5407560"/>
                <a:ext cx="8341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6191280" y="5407560"/>
                <a:ext cx="555840" cy="64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426720" y="5407560"/>
                <a:ext cx="555840" cy="64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620040" y="5571000"/>
                <a:ext cx="43164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8643960" y="5420160"/>
                <a:ext cx="504000" cy="62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818760" y="5795280"/>
                <a:ext cx="1846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7018200" y="5795280"/>
                <a:ext cx="1846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211520" y="5795280"/>
                <a:ext cx="18504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368480" y="5795280"/>
                <a:ext cx="1846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532640" y="5783040"/>
                <a:ext cx="175680" cy="27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674840" y="5945040"/>
                <a:ext cx="9360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831800" y="5941800"/>
                <a:ext cx="93240" cy="11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989120" y="5942160"/>
                <a:ext cx="9360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8146080" y="5942160"/>
                <a:ext cx="9360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8303040" y="5941800"/>
                <a:ext cx="93240" cy="11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839720" y="4114800"/>
                <a:ext cx="202320" cy="630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4" name=""/>
              <p:cNvGrpSpPr/>
              <p:nvPr/>
            </p:nvGrpSpPr>
            <p:grpSpPr>
              <a:xfrm>
                <a:off x="7307280" y="4583520"/>
                <a:ext cx="1217520" cy="1033920"/>
                <a:chOff x="7307280" y="4583520"/>
                <a:chExt cx="1217520" cy="10339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756560" y="4583520"/>
                  <a:ext cx="366480" cy="429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94800">
                  <a:off x="7675560" y="4933080"/>
                  <a:ext cx="567360" cy="150840"/>
                </a:xfrm>
                <a:custGeom>
                  <a:avLst/>
                  <a:gdLst/>
                  <a:ahLst/>
                  <a:rect l="l" t="t" r="r" b="b"/>
                  <a:pathLst>
                    <a:path w="360" h="360">
                      <a:moveTo>
                        <a:pt x="0" y="360"/>
                      </a:moveTo>
                      <a:cubicBezTo>
                        <a:pt x="60" y="180"/>
                        <a:pt x="120" y="0"/>
                        <a:pt x="180" y="0"/>
                      </a:cubicBezTo>
                      <a:cubicBezTo>
                        <a:pt x="240" y="0"/>
                        <a:pt x="330" y="300"/>
                        <a:pt x="360" y="360"/>
                      </a:cubicBezTo>
                    </a:path>
                  </a:pathLst>
                </a:custGeom>
                <a:solidFill>
                  <a:srgbClr val="ccffff"/>
                </a:solidFill>
                <a:ln w="255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7521120" y="4873680"/>
                  <a:ext cx="338040" cy="16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8011800" y="4860720"/>
                  <a:ext cx="331920" cy="224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307280" y="5056200"/>
                  <a:ext cx="381960" cy="429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142840" y="5056200"/>
                  <a:ext cx="381960" cy="429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528680" y="5335200"/>
                  <a:ext cx="22896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682040" y="5407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641360" y="5371200"/>
                  <a:ext cx="518400" cy="24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10800" bIns="10800" anchor="b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e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3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8127000" y="5342760"/>
                  <a:ext cx="15660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6976080" y="5555160"/>
                <a:ext cx="1727280" cy="357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b" anchorCtr="1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оксид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8470800" y="5420160"/>
                <a:ext cx="504000" cy="62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2146320" y="152280"/>
            <a:ext cx="4787640" cy="459720"/>
            <a:chOff x="2146320" y="152280"/>
            <a:chExt cx="4787640" cy="459720"/>
          </a:xfrm>
        </p:grpSpPr>
        <p:sp>
          <p:nvSpPr>
            <p:cNvPr id="138" name=""/>
            <p:cNvSpPr/>
            <p:nvPr/>
          </p:nvSpPr>
          <p:spPr>
            <a:xfrm>
              <a:off x="2487240" y="152280"/>
              <a:ext cx="41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Электролитическое оса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6320" y="152280"/>
              <a:ext cx="478764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228760" y="6095880"/>
            <a:ext cx="0" cy="228600"/>
          </a:xfrm>
          <a:prstGeom prst="line">
            <a:avLst/>
          </a:prstGeom>
          <a:ln w="9360">
            <a:solidFill>
              <a:srgbClr val="ffff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44520" y="1052640"/>
            <a:ext cx="4446360" cy="2394720"/>
            <a:chOff x="344520" y="1052640"/>
            <a:chExt cx="4446360" cy="2394720"/>
          </a:xfrm>
        </p:grpSpPr>
        <p:graphicFrame>
          <p:nvGraphicFramePr>
            <p:cNvPr id="142" name=""/>
            <p:cNvGraphicFramePr/>
            <p:nvPr/>
          </p:nvGraphicFramePr>
          <p:xfrm>
            <a:off x="344520" y="1057320"/>
            <a:ext cx="2166120" cy="2247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4520" y="1057320"/>
                      <a:ext cx="2166120" cy="22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3014640" y="1128960"/>
            <a:ext cx="1776240" cy="2163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14640" y="1128960"/>
                      <a:ext cx="1776240" cy="21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1645560" y="3110040"/>
              <a:ext cx="174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Энергия связи, э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8840" y="1052640"/>
              <a:ext cx="594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2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02240" y="1052640"/>
              <a:ext cx="4950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1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56520" y="914400"/>
            <a:ext cx="3384000" cy="2666880"/>
            <a:chOff x="6356520" y="914400"/>
            <a:chExt cx="3384000" cy="2666880"/>
          </a:xfrm>
        </p:grpSpPr>
        <p:sp>
          <p:nvSpPr>
            <p:cNvPr id="150" name=""/>
            <p:cNvSpPr/>
            <p:nvPr/>
          </p:nvSpPr>
          <p:spPr>
            <a:xfrm>
              <a:off x="6356520" y="914400"/>
              <a:ext cx="3384000" cy="2666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6"/>
            <a:stretch/>
          </p:blipFill>
          <p:spPr>
            <a:xfrm>
              <a:off x="6521760" y="1600200"/>
              <a:ext cx="297108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7"/>
            <a:stretch/>
          </p:blipFill>
          <p:spPr>
            <a:xfrm>
              <a:off x="7450200" y="1066680"/>
              <a:ext cx="1277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841880" y="3276720"/>
              <a:ext cx="42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29320" y="1066680"/>
              <a:ext cx="51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72360" y="1066680"/>
              <a:ext cx="495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5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1880" y="1905120"/>
              <a:ext cx="330120" cy="22860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99040" y="2286000"/>
              <a:ext cx="330120" cy="22860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32600" y="1371600"/>
              <a:ext cx="495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346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99200" y="2133720"/>
              <a:ext cx="495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0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6880" y="144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38960" y="1295280"/>
              <a:ext cx="90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олеа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870080" y="1219320"/>
            <a:ext cx="1403280" cy="803160"/>
            <a:chOff x="4870080" y="1219320"/>
            <a:chExt cx="1403280" cy="803160"/>
          </a:xfrm>
        </p:grpSpPr>
        <p:sp>
          <p:nvSpPr>
            <p:cNvPr id="163" name=""/>
            <p:cNvSpPr/>
            <p:nvPr/>
          </p:nvSpPr>
          <p:spPr>
            <a:xfrm>
              <a:off x="5365440" y="1219320"/>
              <a:ext cx="34380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ОК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5499720" y="1418760"/>
              <a:ext cx="72000" cy="26316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936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65440" y="1725480"/>
              <a:ext cx="343800" cy="2966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65440" y="1719000"/>
              <a:ext cx="412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0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8360" y="1676160"/>
              <a:ext cx="495000" cy="0"/>
            </a:xfrm>
            <a:prstGeom prst="line">
              <a:avLst/>
            </a:prstGeom>
            <a:ln w="9360">
              <a:solidFill>
                <a:srgbClr val="ffff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870080" y="1676160"/>
              <a:ext cx="495000" cy="0"/>
            </a:xfrm>
            <a:prstGeom prst="line">
              <a:avLst/>
            </a:prstGeom>
            <a:ln w="9360">
              <a:solidFill>
                <a:srgbClr val="ffff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870080" y="2286000"/>
            <a:ext cx="1403280" cy="846000"/>
            <a:chOff x="4870080" y="2286000"/>
            <a:chExt cx="1403280" cy="846000"/>
          </a:xfrm>
        </p:grpSpPr>
        <p:sp>
          <p:nvSpPr>
            <p:cNvPr id="170" name=""/>
            <p:cNvSpPr/>
            <p:nvPr/>
          </p:nvSpPr>
          <p:spPr>
            <a:xfrm>
              <a:off x="5159160" y="2293560"/>
              <a:ext cx="3434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ОК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5370480" y="2556720"/>
              <a:ext cx="72000" cy="26316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936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65440" y="2835000"/>
              <a:ext cx="343800" cy="2966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65440" y="2828520"/>
              <a:ext cx="412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0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8360" y="2785680"/>
              <a:ext cx="495000" cy="0"/>
            </a:xfrm>
            <a:prstGeom prst="line">
              <a:avLst/>
            </a:prstGeom>
            <a:ln w="9360">
              <a:solidFill>
                <a:srgbClr val="ffff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870080" y="2785680"/>
              <a:ext cx="495000" cy="0"/>
            </a:xfrm>
            <a:prstGeom prst="line">
              <a:avLst/>
            </a:prstGeom>
            <a:ln w="9360">
              <a:solidFill>
                <a:srgbClr val="ffff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5613120" y="2556720"/>
              <a:ext cx="72000" cy="26316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936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3120" y="2286000"/>
              <a:ext cx="34380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d7"/>
                  </a:solidFill>
                  <a:latin typeface="Times New Roman"/>
                </a:rPr>
                <a:t>И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H="1" flipV="1">
            <a:off x="2895120" y="220968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120" y="19051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8040" y="1996920"/>
            <a:ext cx="683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си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84520" y="1557360"/>
            <a:ext cx="360360" cy="3603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12880" y="2060640"/>
            <a:ext cx="360360" cy="3603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948-3B5C-467E-8BE7-90EDB969A5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301920" y="5181480"/>
          <a:ext cx="3880080" cy="1295280"/>
        </p:xfrm>
        <a:graphic>
          <a:graphicData uri="http://schemas.openxmlformats.org/drawingml/2006/table">
            <a:tbl>
              <a:tblPr/>
              <a:tblGrid>
                <a:gridCol w="2017800"/>
                <a:gridCol w="698400"/>
                <a:gridCol w="1163880"/>
              </a:tblGrid>
              <a:tr h="45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+И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0" rIns="0" tIns="57240" bIns="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дельная теп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мачивания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/м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4" name=""/>
          <p:cNvGrpSpPr/>
          <p:nvPr/>
        </p:nvGrpSpPr>
        <p:grpSpPr>
          <a:xfrm>
            <a:off x="3018960" y="914400"/>
            <a:ext cx="3006720" cy="765000"/>
            <a:chOff x="3018960" y="914400"/>
            <a:chExt cx="3006720" cy="765000"/>
          </a:xfrm>
        </p:grpSpPr>
        <p:sp>
          <p:nvSpPr>
            <p:cNvPr id="185" name=""/>
            <p:cNvSpPr/>
            <p:nvPr/>
          </p:nvSpPr>
          <p:spPr>
            <a:xfrm>
              <a:off x="3714480" y="914400"/>
              <a:ext cx="16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РФЭС + СХ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018960" y="1161360"/>
              <a:ext cx="978480" cy="49644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2520" y="1143000"/>
              <a:ext cx="1073160" cy="53640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650960" y="4876920"/>
            <a:ext cx="1167840" cy="1600200"/>
            <a:chOff x="1650960" y="4876920"/>
            <a:chExt cx="1167840" cy="1600200"/>
          </a:xfrm>
        </p:grpSpPr>
        <p:sp>
          <p:nvSpPr>
            <p:cNvPr id="189" name=""/>
            <p:cNvSpPr/>
            <p:nvPr/>
          </p:nvSpPr>
          <p:spPr>
            <a:xfrm>
              <a:off x="1650960" y="4876920"/>
              <a:ext cx="1156320" cy="1600200"/>
            </a:xfrm>
            <a:prstGeom prst="rect">
              <a:avLst/>
            </a:prstGeom>
            <a:solidFill>
              <a:srgbClr val="ffffd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670040" y="4952880"/>
              <a:ext cx="1148760" cy="1447920"/>
              <a:chOff x="1670040" y="4952880"/>
              <a:chExt cx="1148760" cy="1447920"/>
            </a:xfrm>
          </p:grpSpPr>
          <p:sp>
            <p:nvSpPr>
              <p:cNvPr id="191" name=""/>
              <p:cNvSpPr/>
              <p:nvPr/>
            </p:nvSpPr>
            <p:spPr>
              <a:xfrm>
                <a:off x="2149560" y="5257800"/>
                <a:ext cx="263160" cy="36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94800">
                <a:off x="2001600" y="5686560"/>
                <a:ext cx="555120" cy="134640"/>
              </a:xfrm>
              <a:custGeom>
                <a:avLst/>
                <a:gdLst/>
                <a:ahLst/>
                <a:rect l="l" t="t" r="r" b="b"/>
                <a:pathLst>
                  <a:path w="360" h="360">
                    <a:moveTo>
                      <a:pt x="0" y="360"/>
                    </a:moveTo>
                    <a:cubicBezTo>
                      <a:pt x="60" y="180"/>
                      <a:pt x="120" y="0"/>
                      <a:pt x="180" y="0"/>
                    </a:cubicBezTo>
                    <a:cubicBezTo>
                      <a:pt x="240" y="0"/>
                      <a:pt x="330" y="300"/>
                      <a:pt x="360" y="36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882440" y="5639760"/>
                <a:ext cx="33984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2372400" y="5622480"/>
                <a:ext cx="331920" cy="20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670040" y="5715000"/>
                <a:ext cx="3301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00560" y="5734080"/>
                <a:ext cx="31824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849680" y="6076080"/>
                <a:ext cx="283680" cy="178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412720" y="6075360"/>
                <a:ext cx="259560" cy="152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94480" y="6095880"/>
                <a:ext cx="3765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82600" y="4952880"/>
                <a:ext cx="3301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65240" y="4876920"/>
            <a:ext cx="1320840" cy="914400"/>
            <a:chOff x="165240" y="4876920"/>
            <a:chExt cx="1320840" cy="914400"/>
          </a:xfrm>
        </p:grpSpPr>
        <p:sp>
          <p:nvSpPr>
            <p:cNvPr id="202" name=""/>
            <p:cNvSpPr/>
            <p:nvPr/>
          </p:nvSpPr>
          <p:spPr>
            <a:xfrm>
              <a:off x="165240" y="4876920"/>
              <a:ext cx="1320840" cy="914400"/>
            </a:xfrm>
            <a:prstGeom prst="rect">
              <a:avLst/>
            </a:prstGeom>
            <a:solidFill>
              <a:srgbClr val="ffffd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7680" y="5334120"/>
              <a:ext cx="1155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(O)O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040" y="4952880"/>
              <a:ext cx="330120" cy="304920"/>
            </a:xfrm>
            <a:prstGeom prst="ellipse">
              <a:avLst/>
            </a:prstGeom>
            <a:solidFill>
              <a:srgbClr val="ffffd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534520" y="5029200"/>
            <a:ext cx="1044360" cy="990720"/>
            <a:chOff x="8534520" y="5029200"/>
            <a:chExt cx="1044360" cy="990720"/>
          </a:xfrm>
        </p:grpSpPr>
        <p:sp>
          <p:nvSpPr>
            <p:cNvPr id="206" name=""/>
            <p:cNvSpPr/>
            <p:nvPr/>
          </p:nvSpPr>
          <p:spPr>
            <a:xfrm>
              <a:off x="8534520" y="5029200"/>
              <a:ext cx="990360" cy="990720"/>
            </a:xfrm>
            <a:prstGeom prst="rect">
              <a:avLst/>
            </a:prstGeom>
            <a:solidFill>
              <a:srgbClr val="fff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43880" y="5603760"/>
              <a:ext cx="1035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- O-F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82200" y="5181480"/>
              <a:ext cx="339480" cy="32400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467480" y="5029200"/>
            <a:ext cx="917640" cy="990720"/>
            <a:chOff x="7467480" y="5029200"/>
            <a:chExt cx="917640" cy="990720"/>
          </a:xfrm>
        </p:grpSpPr>
        <p:sp>
          <p:nvSpPr>
            <p:cNvPr id="210" name=""/>
            <p:cNvSpPr/>
            <p:nvPr/>
          </p:nvSpPr>
          <p:spPr>
            <a:xfrm>
              <a:off x="7467480" y="5029200"/>
              <a:ext cx="914400" cy="990720"/>
            </a:xfrm>
            <a:prstGeom prst="rect">
              <a:avLst/>
            </a:prstGeom>
            <a:solidFill>
              <a:srgbClr val="fff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46840" y="5181480"/>
              <a:ext cx="319320" cy="304920"/>
            </a:xfrm>
            <a:prstGeom prst="ellipse">
              <a:avLst/>
            </a:prstGeom>
            <a:solidFill>
              <a:srgbClr val="ffffd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8880" y="563868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 - O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47680" y="632448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S~0.2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b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bd"/>
                </a:solidFill>
                <a:latin typeface="Times New Roman"/>
              </a:rPr>
              <a:t>нм</a:t>
            </a:r>
            <a:r>
              <a:rPr b="0" lang="en-US" sz="2000" spc="-1" strike="noStrike" baseline="30000">
                <a:solidFill>
                  <a:srgbClr val="ffffb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60240" y="1981080"/>
            <a:ext cx="3797280" cy="2743200"/>
            <a:chOff x="660240" y="1981080"/>
            <a:chExt cx="3797280" cy="2743200"/>
          </a:xfrm>
        </p:grpSpPr>
        <p:sp>
          <p:nvSpPr>
            <p:cNvPr id="215" name=""/>
            <p:cNvSpPr/>
            <p:nvPr/>
          </p:nvSpPr>
          <p:spPr>
            <a:xfrm>
              <a:off x="660240" y="2057400"/>
              <a:ext cx="3797280" cy="2666880"/>
            </a:xfrm>
            <a:prstGeom prst="rect">
              <a:avLst/>
            </a:prstGeom>
            <a:solidFill>
              <a:srgbClr val="ffffd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28760" y="1981080"/>
              <a:ext cx="19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568160" y="4153680"/>
              <a:ext cx="2806560" cy="523800"/>
              <a:chOff x="1568160" y="4153680"/>
              <a:chExt cx="2806560" cy="523800"/>
            </a:xfrm>
          </p:grpSpPr>
          <p:sp>
            <p:nvSpPr>
              <p:cNvPr id="218" name=""/>
              <p:cNvSpPr/>
              <p:nvPr/>
            </p:nvSpPr>
            <p:spPr>
              <a:xfrm>
                <a:off x="1568160" y="4191120"/>
                <a:ext cx="28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1588680" y="4163400"/>
                <a:ext cx="536040" cy="51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918800" y="4163400"/>
                <a:ext cx="536040" cy="51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249280" y="4163400"/>
                <a:ext cx="536040" cy="51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579040" y="4163400"/>
                <a:ext cx="536040" cy="51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909520" y="4163400"/>
                <a:ext cx="536040" cy="51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239640" y="4163400"/>
                <a:ext cx="536040" cy="51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530160" y="4163400"/>
                <a:ext cx="536040" cy="51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1568880" y="4153680"/>
                <a:ext cx="238680" cy="227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817440" y="4163400"/>
                <a:ext cx="536040" cy="51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816200" y="2209680"/>
              <a:ext cx="2228400" cy="304560"/>
              <a:chOff x="1816200" y="2209680"/>
              <a:chExt cx="2228400" cy="304560"/>
            </a:xfrm>
          </p:grpSpPr>
          <p:sp>
            <p:nvSpPr>
              <p:cNvPr id="229" name=""/>
              <p:cNvSpPr/>
              <p:nvPr/>
            </p:nvSpPr>
            <p:spPr>
              <a:xfrm>
                <a:off x="1816200" y="2209680"/>
                <a:ext cx="330120" cy="3045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06560" y="2209680"/>
                <a:ext cx="330120" cy="3045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01920" y="2209680"/>
                <a:ext cx="330120" cy="3045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14840" y="2209680"/>
                <a:ext cx="329760" cy="3045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11200" y="2209680"/>
                <a:ext cx="330120" cy="3045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2311560" y="2444760"/>
              <a:ext cx="27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2806560" y="2444760"/>
              <a:ext cx="27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3301920" y="2444760"/>
              <a:ext cx="27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3714840" y="2438280"/>
              <a:ext cx="27180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5"/>
            <a:stretch/>
          </p:blipFill>
          <p:spPr>
            <a:xfrm>
              <a:off x="1816200" y="2444760"/>
              <a:ext cx="27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1816200" y="3137040"/>
              <a:ext cx="27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7"/>
            <a:stretch/>
          </p:blipFill>
          <p:spPr>
            <a:xfrm>
              <a:off x="2311560" y="3137040"/>
              <a:ext cx="27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8"/>
            <a:stretch/>
          </p:blipFill>
          <p:spPr>
            <a:xfrm>
              <a:off x="2806560" y="3137040"/>
              <a:ext cx="27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9"/>
            <a:stretch/>
          </p:blipFill>
          <p:spPr>
            <a:xfrm>
              <a:off x="3301920" y="3137040"/>
              <a:ext cx="2714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0"/>
            <a:stretch/>
          </p:blipFill>
          <p:spPr>
            <a:xfrm>
              <a:off x="3714840" y="3137040"/>
              <a:ext cx="27180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"/>
            <p:cNvGrpSpPr/>
            <p:nvPr/>
          </p:nvGrpSpPr>
          <p:grpSpPr>
            <a:xfrm>
              <a:off x="1816200" y="3975120"/>
              <a:ext cx="2228400" cy="304560"/>
              <a:chOff x="1816200" y="3975120"/>
              <a:chExt cx="2228400" cy="304560"/>
            </a:xfrm>
          </p:grpSpPr>
          <p:sp>
            <p:nvSpPr>
              <p:cNvPr id="245" name=""/>
              <p:cNvSpPr/>
              <p:nvPr/>
            </p:nvSpPr>
            <p:spPr>
              <a:xfrm>
                <a:off x="1816200" y="3975120"/>
                <a:ext cx="3301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06560" y="3975120"/>
                <a:ext cx="3301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01920" y="3975120"/>
                <a:ext cx="3301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714840" y="3975120"/>
                <a:ext cx="3297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11200" y="3975120"/>
                <a:ext cx="3301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42680" y="2590920"/>
              <a:ext cx="990000" cy="1123920"/>
              <a:chOff x="742680" y="2590920"/>
              <a:chExt cx="990000" cy="11239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742680" y="2590920"/>
                <a:ext cx="659520" cy="1122840"/>
                <a:chOff x="742680" y="2590920"/>
                <a:chExt cx="659520" cy="11228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42680" y="2590920"/>
                  <a:ext cx="65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ОК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823320" y="2901960"/>
                  <a:ext cx="427680" cy="811800"/>
                  <a:chOff x="823320" y="2901960"/>
                  <a:chExt cx="427680" cy="811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0800000">
                    <a:off x="986040" y="2901960"/>
                    <a:ext cx="8496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5">
                        <a:moveTo>
                          <a:pt x="4" y="0"/>
                        </a:moveTo>
                        <a:lnTo>
                          <a:pt x="0" y="2"/>
                        </a:lnTo>
                        <a:lnTo>
                          <a:pt x="8" y="6"/>
                        </a:lnTo>
                        <a:lnTo>
                          <a:pt x="0" y="9"/>
                        </a:lnTo>
                        <a:lnTo>
                          <a:pt x="8" y="13"/>
                        </a:lnTo>
                        <a:lnTo>
                          <a:pt x="0" y="17"/>
                        </a:lnTo>
                        <a:lnTo>
                          <a:pt x="8" y="21"/>
                        </a:lnTo>
                        <a:lnTo>
                          <a:pt x="0" y="24"/>
                        </a:lnTo>
                        <a:lnTo>
                          <a:pt x="8" y="28"/>
                        </a:lnTo>
                        <a:lnTo>
                          <a:pt x="0" y="32"/>
                        </a:lnTo>
                        <a:lnTo>
                          <a:pt x="8" y="35"/>
                        </a:lnTo>
                        <a:lnTo>
                          <a:pt x="0" y="39"/>
                        </a:lnTo>
                        <a:lnTo>
                          <a:pt x="8" y="43"/>
                        </a:lnTo>
                        <a:lnTo>
                          <a:pt x="4" y="45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823320" y="3347280"/>
                    <a:ext cx="406800" cy="340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841680" y="3345480"/>
                    <a:ext cx="409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F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" name=""/>
              <p:cNvSpPr/>
              <p:nvPr/>
            </p:nvSpPr>
            <p:spPr>
              <a:xfrm>
                <a:off x="1237680" y="3124080"/>
                <a:ext cx="49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2680" y="2590920"/>
                <a:ext cx="65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ОК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0800000">
                <a:off x="986040" y="2901600"/>
                <a:ext cx="83880" cy="39852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23320" y="3348000"/>
                <a:ext cx="407160" cy="33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42040" y="33465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2146320" y="227520"/>
            <a:ext cx="4787640" cy="459720"/>
            <a:chOff x="2146320" y="227520"/>
            <a:chExt cx="4787640" cy="459720"/>
          </a:xfrm>
        </p:grpSpPr>
        <p:sp>
          <p:nvSpPr>
            <p:cNvPr id="263" name=""/>
            <p:cNvSpPr/>
            <p:nvPr/>
          </p:nvSpPr>
          <p:spPr>
            <a:xfrm>
              <a:off x="2487240" y="227520"/>
              <a:ext cx="41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Электролитическое оса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228600"/>
              <a:ext cx="478764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816200" y="2209680"/>
            <a:ext cx="2228400" cy="304920"/>
            <a:chOff x="1816200" y="2209680"/>
            <a:chExt cx="2228400" cy="304920"/>
          </a:xfrm>
        </p:grpSpPr>
        <p:sp>
          <p:nvSpPr>
            <p:cNvPr id="266" name=""/>
            <p:cNvSpPr/>
            <p:nvPr/>
          </p:nvSpPr>
          <p:spPr>
            <a:xfrm>
              <a:off x="1816200" y="2209680"/>
              <a:ext cx="3301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11200" y="2209680"/>
              <a:ext cx="3301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06560" y="2209680"/>
              <a:ext cx="3301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5520" y="2209680"/>
              <a:ext cx="33012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14840" y="2209680"/>
              <a:ext cx="3297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283360" y="2057400"/>
            <a:ext cx="3962160" cy="2666880"/>
          </a:xfrm>
          <a:prstGeom prst="rect">
            <a:avLst/>
          </a:prstGeom>
          <a:solidFill>
            <a:srgbClr val="ffff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55160" y="251604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К+И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48240" y="41353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469120" y="4101480"/>
            <a:ext cx="536400" cy="51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799240" y="4101480"/>
            <a:ext cx="536400" cy="51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129360" y="4101480"/>
            <a:ext cx="536400" cy="51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459480" y="4101480"/>
            <a:ext cx="536040" cy="51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9960" y="4101480"/>
            <a:ext cx="536400" cy="51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20080" y="4101480"/>
            <a:ext cx="536400" cy="51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410600" y="4101480"/>
            <a:ext cx="536400" cy="51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449320" y="4096440"/>
            <a:ext cx="238680" cy="227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697880" y="4101480"/>
            <a:ext cx="536400" cy="51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72280" y="2560680"/>
            <a:ext cx="109440" cy="608040"/>
          </a:xfrm>
          <a:custGeom>
            <a:avLst/>
            <a:gdLst/>
            <a:ahLst/>
            <a:rect l="l" t="t" r="r" b="b"/>
            <a:pathLst>
              <a:path w="8" h="50">
                <a:moveTo>
                  <a:pt x="4" y="0"/>
                </a:moveTo>
                <a:lnTo>
                  <a:pt x="0" y="2"/>
                </a:lnTo>
                <a:lnTo>
                  <a:pt x="8" y="5"/>
                </a:lnTo>
                <a:lnTo>
                  <a:pt x="0" y="9"/>
                </a:lnTo>
                <a:lnTo>
                  <a:pt x="8" y="13"/>
                </a:lnTo>
                <a:lnTo>
                  <a:pt x="0" y="16"/>
                </a:lnTo>
                <a:lnTo>
                  <a:pt x="8" y="20"/>
                </a:lnTo>
                <a:lnTo>
                  <a:pt x="0" y="23"/>
                </a:lnTo>
                <a:lnTo>
                  <a:pt x="8" y="27"/>
                </a:lnTo>
                <a:lnTo>
                  <a:pt x="0" y="31"/>
                </a:lnTo>
                <a:lnTo>
                  <a:pt x="8" y="34"/>
                </a:lnTo>
                <a:lnTo>
                  <a:pt x="0" y="38"/>
                </a:lnTo>
                <a:lnTo>
                  <a:pt x="8" y="41"/>
                </a:lnTo>
                <a:lnTo>
                  <a:pt x="0" y="45"/>
                </a:lnTo>
                <a:lnTo>
                  <a:pt x="8" y="49"/>
                </a:lnTo>
                <a:lnTo>
                  <a:pt x="4" y="50"/>
                </a:lnTo>
              </a:path>
            </a:pathLst>
          </a:custGeom>
          <a:noFill/>
          <a:ln w="1260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67640" y="2560680"/>
            <a:ext cx="109440" cy="608040"/>
          </a:xfrm>
          <a:custGeom>
            <a:avLst/>
            <a:gdLst/>
            <a:ahLst/>
            <a:rect l="l" t="t" r="r" b="b"/>
            <a:pathLst>
              <a:path w="8" h="50">
                <a:moveTo>
                  <a:pt x="4" y="0"/>
                </a:moveTo>
                <a:lnTo>
                  <a:pt x="0" y="2"/>
                </a:lnTo>
                <a:lnTo>
                  <a:pt x="8" y="5"/>
                </a:lnTo>
                <a:lnTo>
                  <a:pt x="0" y="9"/>
                </a:lnTo>
                <a:lnTo>
                  <a:pt x="8" y="13"/>
                </a:lnTo>
                <a:lnTo>
                  <a:pt x="0" y="16"/>
                </a:lnTo>
                <a:lnTo>
                  <a:pt x="8" y="20"/>
                </a:lnTo>
                <a:lnTo>
                  <a:pt x="0" y="23"/>
                </a:lnTo>
                <a:lnTo>
                  <a:pt x="8" y="27"/>
                </a:lnTo>
                <a:lnTo>
                  <a:pt x="0" y="31"/>
                </a:lnTo>
                <a:lnTo>
                  <a:pt x="8" y="34"/>
                </a:lnTo>
                <a:lnTo>
                  <a:pt x="0" y="38"/>
                </a:lnTo>
                <a:lnTo>
                  <a:pt x="8" y="41"/>
                </a:lnTo>
                <a:lnTo>
                  <a:pt x="0" y="45"/>
                </a:lnTo>
                <a:lnTo>
                  <a:pt x="8" y="49"/>
                </a:lnTo>
                <a:lnTo>
                  <a:pt x="4" y="50"/>
                </a:lnTo>
              </a:path>
            </a:pathLst>
          </a:cu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62640" y="2560680"/>
            <a:ext cx="109800" cy="608040"/>
          </a:xfrm>
          <a:custGeom>
            <a:avLst/>
            <a:gdLst/>
            <a:ahLst/>
            <a:rect l="l" t="t" r="r" b="b"/>
            <a:pathLst>
              <a:path w="8" h="50">
                <a:moveTo>
                  <a:pt x="4" y="0"/>
                </a:moveTo>
                <a:lnTo>
                  <a:pt x="0" y="2"/>
                </a:lnTo>
                <a:lnTo>
                  <a:pt x="8" y="5"/>
                </a:lnTo>
                <a:lnTo>
                  <a:pt x="0" y="9"/>
                </a:lnTo>
                <a:lnTo>
                  <a:pt x="8" y="13"/>
                </a:lnTo>
                <a:lnTo>
                  <a:pt x="0" y="16"/>
                </a:lnTo>
                <a:lnTo>
                  <a:pt x="8" y="20"/>
                </a:lnTo>
                <a:lnTo>
                  <a:pt x="0" y="23"/>
                </a:lnTo>
                <a:lnTo>
                  <a:pt x="8" y="27"/>
                </a:lnTo>
                <a:lnTo>
                  <a:pt x="0" y="31"/>
                </a:lnTo>
                <a:lnTo>
                  <a:pt x="8" y="34"/>
                </a:lnTo>
                <a:lnTo>
                  <a:pt x="0" y="38"/>
                </a:lnTo>
                <a:lnTo>
                  <a:pt x="8" y="41"/>
                </a:lnTo>
                <a:lnTo>
                  <a:pt x="0" y="45"/>
                </a:lnTo>
                <a:lnTo>
                  <a:pt x="8" y="49"/>
                </a:lnTo>
                <a:lnTo>
                  <a:pt x="4" y="50"/>
                </a:lnTo>
              </a:path>
            </a:pathLst>
          </a:custGeom>
          <a:noFill/>
          <a:ln w="1260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75560" y="2554200"/>
            <a:ext cx="109440" cy="608040"/>
          </a:xfrm>
          <a:custGeom>
            <a:avLst/>
            <a:gdLst/>
            <a:ahLst/>
            <a:rect l="l" t="t" r="r" b="b"/>
            <a:pathLst>
              <a:path w="8" h="50">
                <a:moveTo>
                  <a:pt x="4" y="0"/>
                </a:moveTo>
                <a:lnTo>
                  <a:pt x="0" y="2"/>
                </a:lnTo>
                <a:lnTo>
                  <a:pt x="8" y="5"/>
                </a:lnTo>
                <a:lnTo>
                  <a:pt x="0" y="9"/>
                </a:lnTo>
                <a:lnTo>
                  <a:pt x="8" y="13"/>
                </a:lnTo>
                <a:lnTo>
                  <a:pt x="0" y="16"/>
                </a:lnTo>
                <a:lnTo>
                  <a:pt x="8" y="20"/>
                </a:lnTo>
                <a:lnTo>
                  <a:pt x="0" y="23"/>
                </a:lnTo>
                <a:lnTo>
                  <a:pt x="8" y="27"/>
                </a:lnTo>
                <a:lnTo>
                  <a:pt x="0" y="31"/>
                </a:lnTo>
                <a:lnTo>
                  <a:pt x="8" y="34"/>
                </a:lnTo>
                <a:lnTo>
                  <a:pt x="0" y="38"/>
                </a:lnTo>
                <a:lnTo>
                  <a:pt x="8" y="41"/>
                </a:lnTo>
                <a:lnTo>
                  <a:pt x="0" y="45"/>
                </a:lnTo>
                <a:lnTo>
                  <a:pt x="8" y="49"/>
                </a:lnTo>
                <a:lnTo>
                  <a:pt x="4" y="50"/>
                </a:lnTo>
              </a:path>
            </a:pathLst>
          </a:custGeom>
          <a:noFill/>
          <a:ln w="1260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76920" y="2560680"/>
            <a:ext cx="109440" cy="608040"/>
          </a:xfrm>
          <a:custGeom>
            <a:avLst/>
            <a:gdLst/>
            <a:ahLst/>
            <a:rect l="l" t="t" r="r" b="b"/>
            <a:pathLst>
              <a:path w="8" h="50">
                <a:moveTo>
                  <a:pt x="4" y="0"/>
                </a:moveTo>
                <a:lnTo>
                  <a:pt x="0" y="2"/>
                </a:lnTo>
                <a:lnTo>
                  <a:pt x="8" y="5"/>
                </a:lnTo>
                <a:lnTo>
                  <a:pt x="0" y="9"/>
                </a:lnTo>
                <a:lnTo>
                  <a:pt x="8" y="13"/>
                </a:lnTo>
                <a:lnTo>
                  <a:pt x="0" y="16"/>
                </a:lnTo>
                <a:lnTo>
                  <a:pt x="8" y="20"/>
                </a:lnTo>
                <a:lnTo>
                  <a:pt x="0" y="23"/>
                </a:lnTo>
                <a:lnTo>
                  <a:pt x="8" y="27"/>
                </a:lnTo>
                <a:lnTo>
                  <a:pt x="0" y="31"/>
                </a:lnTo>
                <a:lnTo>
                  <a:pt x="8" y="34"/>
                </a:lnTo>
                <a:lnTo>
                  <a:pt x="0" y="38"/>
                </a:lnTo>
                <a:lnTo>
                  <a:pt x="8" y="41"/>
                </a:lnTo>
                <a:lnTo>
                  <a:pt x="0" y="45"/>
                </a:lnTo>
                <a:lnTo>
                  <a:pt x="8" y="49"/>
                </a:lnTo>
                <a:lnTo>
                  <a:pt x="4" y="50"/>
                </a:lnTo>
              </a:path>
            </a:pathLst>
          </a:custGeom>
          <a:noFill/>
          <a:ln w="1260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5695920" y="3111480"/>
            <a:ext cx="271440" cy="8510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6191280" y="3111480"/>
            <a:ext cx="271440" cy="851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6686640" y="3111480"/>
            <a:ext cx="271440" cy="851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7182000" y="3111480"/>
            <a:ext cx="271440" cy="851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5"/>
          <a:stretch/>
        </p:blipFill>
        <p:spPr>
          <a:xfrm>
            <a:off x="7594560" y="3111480"/>
            <a:ext cx="271440" cy="851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695920" y="3925800"/>
            <a:ext cx="330120" cy="295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86640" y="3925800"/>
            <a:ext cx="330120" cy="295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82000" y="3925800"/>
            <a:ext cx="330120" cy="295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94560" y="3925800"/>
            <a:ext cx="330120" cy="295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91280" y="3925800"/>
            <a:ext cx="330120" cy="295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924680" y="3098880"/>
            <a:ext cx="495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8547120" y="2820600"/>
            <a:ext cx="84240" cy="3985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lnTo>
                  <a:pt x="0" y="2"/>
                </a:lnTo>
                <a:lnTo>
                  <a:pt x="8" y="6"/>
                </a:lnTo>
                <a:lnTo>
                  <a:pt x="0" y="9"/>
                </a:lnTo>
                <a:lnTo>
                  <a:pt x="8" y="13"/>
                </a:lnTo>
                <a:lnTo>
                  <a:pt x="0" y="17"/>
                </a:lnTo>
                <a:lnTo>
                  <a:pt x="8" y="21"/>
                </a:lnTo>
                <a:lnTo>
                  <a:pt x="0" y="24"/>
                </a:lnTo>
                <a:lnTo>
                  <a:pt x="8" y="28"/>
                </a:lnTo>
                <a:lnTo>
                  <a:pt x="0" y="32"/>
                </a:lnTo>
                <a:lnTo>
                  <a:pt x="8" y="35"/>
                </a:lnTo>
                <a:lnTo>
                  <a:pt x="0" y="39"/>
                </a:lnTo>
                <a:lnTo>
                  <a:pt x="8" y="43"/>
                </a:lnTo>
                <a:lnTo>
                  <a:pt x="4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3267000"/>
            <a:ext cx="407880" cy="33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483760" y="326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0800000">
            <a:off x="8794800" y="2820600"/>
            <a:ext cx="84240" cy="3985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lnTo>
                  <a:pt x="0" y="2"/>
                </a:lnTo>
                <a:lnTo>
                  <a:pt x="8" y="6"/>
                </a:lnTo>
                <a:lnTo>
                  <a:pt x="0" y="9"/>
                </a:lnTo>
                <a:lnTo>
                  <a:pt x="8" y="13"/>
                </a:lnTo>
                <a:lnTo>
                  <a:pt x="0" y="17"/>
                </a:lnTo>
                <a:lnTo>
                  <a:pt x="8" y="21"/>
                </a:lnTo>
                <a:lnTo>
                  <a:pt x="0" y="24"/>
                </a:lnTo>
                <a:lnTo>
                  <a:pt x="8" y="28"/>
                </a:lnTo>
                <a:lnTo>
                  <a:pt x="0" y="32"/>
                </a:lnTo>
                <a:lnTo>
                  <a:pt x="8" y="35"/>
                </a:lnTo>
                <a:lnTo>
                  <a:pt x="0" y="39"/>
                </a:lnTo>
                <a:lnTo>
                  <a:pt x="8" y="43"/>
                </a:lnTo>
                <a:lnTo>
                  <a:pt x="4" y="45"/>
                </a:lnTo>
              </a:path>
            </a:pathLst>
          </a:custGeom>
          <a:noFill/>
          <a:ln w="93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05560" y="2209680"/>
            <a:ext cx="2228400" cy="297000"/>
            <a:chOff x="5605560" y="2209680"/>
            <a:chExt cx="2228400" cy="297000"/>
          </a:xfrm>
        </p:grpSpPr>
        <p:sp>
          <p:nvSpPr>
            <p:cNvPr id="304" name=""/>
            <p:cNvSpPr/>
            <p:nvPr/>
          </p:nvSpPr>
          <p:spPr>
            <a:xfrm>
              <a:off x="5605560" y="2209680"/>
              <a:ext cx="330120" cy="297000"/>
            </a:xfrm>
            <a:prstGeom prst="ellipse">
              <a:avLst/>
            </a:prstGeom>
            <a:noFill/>
            <a:ln w="158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00560" y="2209680"/>
              <a:ext cx="330120" cy="297000"/>
            </a:xfrm>
            <a:prstGeom prst="ellipse">
              <a:avLst/>
            </a:prstGeom>
            <a:noFill/>
            <a:ln w="158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95920" y="2209680"/>
              <a:ext cx="330120" cy="297000"/>
            </a:xfrm>
            <a:prstGeom prst="ellipse">
              <a:avLst/>
            </a:prstGeom>
            <a:noFill/>
            <a:ln w="158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94880" y="2209680"/>
              <a:ext cx="330120" cy="297000"/>
            </a:xfrm>
            <a:prstGeom prst="ellipse">
              <a:avLst/>
            </a:prstGeom>
            <a:noFill/>
            <a:ln w="158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04200" y="2209680"/>
              <a:ext cx="329760" cy="297000"/>
            </a:xfrm>
            <a:prstGeom prst="ellipse">
              <a:avLst/>
            </a:prstGeom>
            <a:noFill/>
            <a:ln w="158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13480" y="2209680"/>
            <a:ext cx="2228400" cy="304560"/>
            <a:chOff x="5613480" y="2209680"/>
            <a:chExt cx="2228400" cy="304560"/>
          </a:xfrm>
        </p:grpSpPr>
        <p:sp>
          <p:nvSpPr>
            <p:cNvPr id="310" name=""/>
            <p:cNvSpPr/>
            <p:nvPr/>
          </p:nvSpPr>
          <p:spPr>
            <a:xfrm>
              <a:off x="5613480" y="2209680"/>
              <a:ext cx="330120" cy="3045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08480" y="2209680"/>
              <a:ext cx="330120" cy="3045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03840" y="2209680"/>
              <a:ext cx="330120" cy="3045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99200" y="2209680"/>
              <a:ext cx="330120" cy="3045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12120" y="2209680"/>
              <a:ext cx="329760" cy="3045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6553080" y="838080"/>
          <a:ext cx="2705400" cy="1066680"/>
        </p:xfrm>
        <a:graphic>
          <a:graphicData uri="http://schemas.openxmlformats.org/drawingml/2006/table">
            <a:tbl>
              <a:tblPr/>
              <a:tblGrid>
                <a:gridCol w="1600200"/>
                <a:gridCol w="533520"/>
                <a:gridCol w="571680"/>
              </a:tblGrid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рхнос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тяжение, м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/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096-1817-4D93-A612-744649E73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0927"/>
            </a:gs>
            <a:gs pos="50000">
              <a:srgbClr val="3333cc"/>
            </a:gs>
            <a:gs pos="100000">
              <a:srgbClr val="0909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1733400" y="1752480"/>
            <a:ext cx="1403280" cy="1041480"/>
            <a:chOff x="1733400" y="1752480"/>
            <a:chExt cx="1403280" cy="1041480"/>
          </a:xfrm>
        </p:grpSpPr>
        <p:sp>
          <p:nvSpPr>
            <p:cNvPr id="317" name=""/>
            <p:cNvSpPr/>
            <p:nvPr/>
          </p:nvSpPr>
          <p:spPr>
            <a:xfrm>
              <a:off x="2393640" y="1752480"/>
              <a:ext cx="0" cy="27000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33400" y="2489040"/>
              <a:ext cx="1403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RHC</a:t>
              </a:r>
              <a:r>
                <a:rPr b="1" lang="en-US" sz="2000" spc="-1" strike="noStrike">
                  <a:solidFill>
                    <a:srgbClr val="ffffbd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CHR`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5360" y="1981080"/>
              <a:ext cx="8258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Br</a:t>
              </a: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B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520720" y="2285640"/>
              <a:ext cx="0" cy="22860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228760" y="2285640"/>
              <a:ext cx="0" cy="22860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60240" y="4800600"/>
            <a:ext cx="8998200" cy="0"/>
          </a:xfrm>
          <a:prstGeom prst="line">
            <a:avLst/>
          </a:prstGeom>
          <a:ln w="25560">
            <a:solidFill>
              <a:srgbClr val="fff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65800" y="1066680"/>
            <a:ext cx="3632040" cy="3505320"/>
          </a:xfrm>
          <a:prstGeom prst="rect">
            <a:avLst/>
          </a:prstGeom>
          <a:solidFill>
            <a:srgbClr val="ffff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283360" y="1295280"/>
          <a:ext cx="2492280" cy="29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295280"/>
                    <a:ext cx="249228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695920" y="4210200"/>
            <a:ext cx="1606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нергия связи, э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1160" y="129528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264440" y="1752480"/>
            <a:ext cx="458640" cy="387360"/>
            <a:chOff x="7264440" y="1752480"/>
            <a:chExt cx="458640" cy="387360"/>
          </a:xfrm>
        </p:grpSpPr>
        <p:pic>
          <p:nvPicPr>
            <p:cNvPr id="329" name="" descr=""/>
            <p:cNvPicPr/>
            <p:nvPr/>
          </p:nvPicPr>
          <p:blipFill>
            <a:blip r:embed="rId3"/>
            <a:stretch/>
          </p:blipFill>
          <p:spPr>
            <a:xfrm>
              <a:off x="7264440" y="1752480"/>
              <a:ext cx="45864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7428240" y="1893960"/>
              <a:ext cx="144360" cy="1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7264440" y="2590920"/>
            <a:ext cx="1606320" cy="387360"/>
            <a:chOff x="7264440" y="2590920"/>
            <a:chExt cx="1606320" cy="387360"/>
          </a:xfrm>
        </p:grpSpPr>
        <p:grpSp>
          <p:nvGrpSpPr>
            <p:cNvPr id="332" name=""/>
            <p:cNvGrpSpPr/>
            <p:nvPr/>
          </p:nvGrpSpPr>
          <p:grpSpPr>
            <a:xfrm>
              <a:off x="7264440" y="2590920"/>
              <a:ext cx="459000" cy="387360"/>
              <a:chOff x="7264440" y="2590920"/>
              <a:chExt cx="459000" cy="387360"/>
            </a:xfrm>
          </p:grpSpPr>
          <p:pic>
            <p:nvPicPr>
              <p:cNvPr id="3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4440" y="2590920"/>
                <a:ext cx="459000" cy="38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28600" y="2732400"/>
                <a:ext cx="144360" cy="120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"/>
            <p:cNvSpPr/>
            <p:nvPr/>
          </p:nvSpPr>
          <p:spPr>
            <a:xfrm>
              <a:off x="7723440" y="2628000"/>
              <a:ext cx="1147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+ СХР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)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391160" y="3429000"/>
            <a:ext cx="109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леинов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-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301920" y="2286000"/>
            <a:ext cx="1237680" cy="304560"/>
            <a:chOff x="3301920" y="2286000"/>
            <a:chExt cx="1237680" cy="304560"/>
          </a:xfrm>
        </p:grpSpPr>
        <p:sp>
          <p:nvSpPr>
            <p:cNvPr id="338" name=""/>
            <p:cNvSpPr/>
            <p:nvPr/>
          </p:nvSpPr>
          <p:spPr>
            <a:xfrm>
              <a:off x="3796920" y="2286000"/>
              <a:ext cx="742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301920" y="2457360"/>
              <a:ext cx="393840" cy="1728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311560" y="3657600"/>
            <a:ext cx="1237680" cy="304560"/>
            <a:chOff x="2311560" y="3657600"/>
            <a:chExt cx="1237680" cy="304560"/>
          </a:xfrm>
        </p:grpSpPr>
        <p:sp>
          <p:nvSpPr>
            <p:cNvPr id="341" name=""/>
            <p:cNvSpPr/>
            <p:nvPr/>
          </p:nvSpPr>
          <p:spPr>
            <a:xfrm>
              <a:off x="2806560" y="3657600"/>
              <a:ext cx="742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  <a:ea typeface="Times New Roman"/>
                </a:rPr>
                <a:t>~</a:t>
              </a: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311560" y="3828960"/>
              <a:ext cx="393480" cy="17280"/>
            </a:xfrm>
            <a:prstGeom prst="line">
              <a:avLst/>
            </a:prstGeom>
            <a:ln w="19080">
              <a:solidFill>
                <a:srgbClr val="ffffbd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12920" y="914400"/>
            <a:ext cx="4460400" cy="941400"/>
            <a:chOff x="412920" y="914400"/>
            <a:chExt cx="4460400" cy="941400"/>
          </a:xfrm>
        </p:grpSpPr>
        <p:sp>
          <p:nvSpPr>
            <p:cNvPr id="344" name=""/>
            <p:cNvSpPr/>
            <p:nvPr/>
          </p:nvSpPr>
          <p:spPr>
            <a:xfrm>
              <a:off x="825840" y="914400"/>
              <a:ext cx="404748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РФЭС + СХР (бромирования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bd"/>
                  </a:solidFill>
                  <a:latin typeface="Times New Roman"/>
                </a:rPr>
                <a:t>исходной ОК: 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RCH</a:t>
              </a:r>
              <a:r>
                <a:rPr b="1" lang="en-US" sz="2000" spc="-1" strike="noStrike">
                  <a:solidFill>
                    <a:srgbClr val="ffffbd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CHR`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76440" y="1398600"/>
              <a:ext cx="1402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2920" y="1474920"/>
              <a:ext cx="247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Origin"/>
                  <a:ea typeface="Origin"/>
                </a:rPr>
                <a:t>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2920" y="3200400"/>
            <a:ext cx="1525680" cy="1066680"/>
            <a:chOff x="412920" y="3200400"/>
            <a:chExt cx="1525680" cy="1066680"/>
          </a:xfrm>
        </p:grpSpPr>
        <p:grpSp>
          <p:nvGrpSpPr>
            <p:cNvPr id="348" name=""/>
            <p:cNvGrpSpPr/>
            <p:nvPr/>
          </p:nvGrpSpPr>
          <p:grpSpPr>
            <a:xfrm>
              <a:off x="1485360" y="3200400"/>
              <a:ext cx="453240" cy="1066680"/>
              <a:chOff x="1485360" y="3200400"/>
              <a:chExt cx="453240" cy="1066680"/>
            </a:xfrm>
          </p:grpSpPr>
          <p:sp>
            <p:nvSpPr>
              <p:cNvPr id="349" name=""/>
              <p:cNvSpPr/>
              <p:nvPr/>
            </p:nvSpPr>
            <p:spPr>
              <a:xfrm>
                <a:off x="1649880" y="3505320"/>
                <a:ext cx="86040" cy="37440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1485360" y="3886200"/>
                <a:ext cx="441360" cy="380880"/>
                <a:chOff x="1485360" y="3886200"/>
                <a:chExt cx="441360" cy="3808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485360" y="3886200"/>
                  <a:ext cx="411480" cy="380880"/>
                </a:xfrm>
                <a:prstGeom prst="ellipse">
                  <a:avLst/>
                </a:prstGeom>
                <a:solidFill>
                  <a:srgbClr val="ff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503720" y="3886200"/>
                  <a:ext cx="42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F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1485360" y="3200400"/>
                <a:ext cx="45324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bd"/>
                    </a:solidFill>
                    <a:latin typeface="Times New Roman"/>
                  </a:rPr>
                  <a:t>ОК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412920" y="3235320"/>
              <a:ext cx="247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Origin"/>
                  <a:ea typeface="Origin"/>
                </a:rPr>
                <a:t>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146320" y="227520"/>
            <a:ext cx="4787640" cy="459720"/>
            <a:chOff x="2146320" y="227520"/>
            <a:chExt cx="4787640" cy="459720"/>
          </a:xfrm>
        </p:grpSpPr>
        <p:sp>
          <p:nvSpPr>
            <p:cNvPr id="356" name=""/>
            <p:cNvSpPr/>
            <p:nvPr/>
          </p:nvSpPr>
          <p:spPr>
            <a:xfrm>
              <a:off x="2487240" y="227520"/>
              <a:ext cx="41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Электролитическое оса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46320" y="228600"/>
              <a:ext cx="4787640" cy="4572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026040" y="5020200"/>
            <a:ext cx="3219120" cy="1453680"/>
            <a:chOff x="6026040" y="5020200"/>
            <a:chExt cx="3219120" cy="1453680"/>
          </a:xfrm>
        </p:grpSpPr>
        <p:sp>
          <p:nvSpPr>
            <p:cNvPr id="359" name=""/>
            <p:cNvSpPr/>
            <p:nvPr/>
          </p:nvSpPr>
          <p:spPr>
            <a:xfrm>
              <a:off x="7016400" y="6172200"/>
              <a:ext cx="2228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bd"/>
                  </a:solidFill>
                  <a:latin typeface="Times New Roman"/>
                </a:rPr>
                <a:t>Толуольная фрак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870400">
              <a:off x="8168040" y="5088600"/>
              <a:ext cx="100080" cy="41256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362000">
              <a:off x="7502760" y="5350320"/>
              <a:ext cx="99720" cy="41292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433000">
              <a:off x="7635240" y="5564160"/>
              <a:ext cx="117000" cy="35424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96600" y="5639040"/>
              <a:ext cx="117000" cy="35388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838200">
              <a:off x="8168040" y="5518800"/>
              <a:ext cx="100080" cy="41256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465200">
              <a:off x="8245440" y="5306040"/>
              <a:ext cx="100080" cy="41292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922200">
              <a:off x="7936200" y="5028840"/>
              <a:ext cx="114840" cy="35424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8060000">
              <a:off x="7550640" y="5166360"/>
              <a:ext cx="100080" cy="41256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0115000">
              <a:off x="7693560" y="5051160"/>
              <a:ext cx="117000" cy="35388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4" y="0"/>
                  </a:moveTo>
                  <a:lnTo>
                    <a:pt x="0" y="2"/>
                  </a:lnTo>
                  <a:lnTo>
                    <a:pt x="8" y="6"/>
                  </a:lnTo>
                  <a:lnTo>
                    <a:pt x="0" y="9"/>
                  </a:lnTo>
                  <a:lnTo>
                    <a:pt x="8" y="13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0" y="24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0" y="39"/>
                  </a:lnTo>
                  <a:lnTo>
                    <a:pt x="8" y="43"/>
                  </a:lnTo>
                  <a:lnTo>
                    <a:pt x="4" y="45"/>
                  </a:lnTo>
                </a:path>
              </a:pathLst>
            </a:custGeom>
            <a:noFill/>
            <a:ln w="12600">
              <a:solidFill>
                <a:srgbClr val="ffff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26040" y="5562720"/>
              <a:ext cx="1072800" cy="0"/>
            </a:xfrm>
            <a:prstGeom prst="line">
              <a:avLst/>
            </a:prstGeom>
            <a:ln w="25560">
              <a:solidFill>
                <a:srgbClr val="ffff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26040" y="5181840"/>
              <a:ext cx="907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bd"/>
                  </a:solidFill>
                  <a:latin typeface="Times New Roman"/>
                </a:rPr>
                <a:t>Толуо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320840" y="4907160"/>
            <a:ext cx="1240920" cy="1683720"/>
            <a:chOff x="1320840" y="4907160"/>
            <a:chExt cx="1240920" cy="1683720"/>
          </a:xfrm>
        </p:grpSpPr>
        <p:sp>
          <p:nvSpPr>
            <p:cNvPr id="372" name=""/>
            <p:cNvSpPr/>
            <p:nvPr/>
          </p:nvSpPr>
          <p:spPr>
            <a:xfrm>
              <a:off x="1320840" y="6134040"/>
              <a:ext cx="11552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Ис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bd"/>
                  </a:solidFill>
                  <a:latin typeface="Times New Roman"/>
                </a:rPr>
                <a:t>част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400760" y="4907160"/>
              <a:ext cx="1161000" cy="1123200"/>
              <a:chOff x="1400760" y="4907160"/>
              <a:chExt cx="1161000" cy="1123200"/>
            </a:xfrm>
          </p:grpSpPr>
          <p:sp>
            <p:nvSpPr>
              <p:cNvPr id="374" name=""/>
              <p:cNvSpPr/>
              <p:nvPr/>
            </p:nvSpPr>
            <p:spPr>
              <a:xfrm rot="2870400">
                <a:off x="2216520" y="5015160"/>
                <a:ext cx="115560" cy="41256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362000">
                <a:off x="1551240" y="5320080"/>
                <a:ext cx="115560" cy="41220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433000">
                <a:off x="1691640" y="5533920"/>
                <a:ext cx="116280" cy="40932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53360" y="5621040"/>
                <a:ext cx="116640" cy="40932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838200">
                <a:off x="2216880" y="5513400"/>
                <a:ext cx="115560" cy="41256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465200">
                <a:off x="2293920" y="5267160"/>
                <a:ext cx="115560" cy="41220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922200">
                <a:off x="1992240" y="4915080"/>
                <a:ext cx="115200" cy="40932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060000">
                <a:off x="1599120" y="5105880"/>
                <a:ext cx="115560" cy="41220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20115000">
                <a:off x="1749600" y="4940280"/>
                <a:ext cx="116640" cy="408960"/>
              </a:xfrm>
              <a:custGeom>
                <a:avLst/>
                <a:gdLst/>
                <a:ahLst/>
                <a:rect l="l" t="t" r="r" b="b"/>
                <a:pathLst>
                  <a:path w="8" h="45">
                    <a:moveTo>
                      <a:pt x="4" y="0"/>
                    </a:moveTo>
                    <a:lnTo>
                      <a:pt x="0" y="2"/>
                    </a:lnTo>
                    <a:lnTo>
                      <a:pt x="8" y="6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0" y="17"/>
                    </a:lnTo>
                    <a:lnTo>
                      <a:pt x="8" y="21"/>
                    </a:lnTo>
                    <a:lnTo>
                      <a:pt x="0" y="24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8" y="35"/>
                    </a:lnTo>
                    <a:lnTo>
                      <a:pt x="0" y="39"/>
                    </a:lnTo>
                    <a:lnTo>
                      <a:pt x="8" y="43"/>
                    </a:lnTo>
                    <a:lnTo>
                      <a:pt x="4" y="45"/>
                    </a:lnTo>
                  </a:path>
                </a:pathLst>
              </a:custGeom>
              <a:noFill/>
              <a:ln w="12600">
                <a:solidFill>
                  <a:srgbClr val="ffff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15480" y="5295600"/>
                <a:ext cx="342000" cy="3157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2971800" y="5020920"/>
            <a:ext cx="2805840" cy="1608480"/>
            <a:chOff x="2971800" y="5020920"/>
            <a:chExt cx="2805840" cy="1608480"/>
          </a:xfrm>
        </p:grpSpPr>
        <p:sp>
          <p:nvSpPr>
            <p:cNvPr id="385" name=""/>
            <p:cNvSpPr/>
            <p:nvPr/>
          </p:nvSpPr>
          <p:spPr>
            <a:xfrm>
              <a:off x="2971800" y="5562720"/>
              <a:ext cx="1073160" cy="0"/>
            </a:xfrm>
            <a:prstGeom prst="line">
              <a:avLst/>
            </a:prstGeom>
            <a:ln w="25560">
              <a:solidFill>
                <a:srgbClr val="ffff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301920" y="5020920"/>
              <a:ext cx="2475720" cy="1608480"/>
              <a:chOff x="3301920" y="5020920"/>
              <a:chExt cx="2475720" cy="1608480"/>
            </a:xfrm>
          </p:grpSpPr>
          <p:sp>
            <p:nvSpPr>
              <p:cNvPr id="387" name=""/>
              <p:cNvSpPr/>
              <p:nvPr/>
            </p:nvSpPr>
            <p:spPr>
              <a:xfrm>
                <a:off x="3879360" y="6172200"/>
                <a:ext cx="1898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pPr algn="ctr">
                  <a:lnSpc>
                    <a:spcPct val="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Нерастворимы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bd"/>
                    </a:solidFill>
                    <a:latin typeface="Times New Roman"/>
                  </a:rPr>
                  <a:t>осадо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01920" y="5067360"/>
                <a:ext cx="59436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bd"/>
                    </a:solidFill>
                    <a:latin typeface="Times New Roman"/>
                  </a:rPr>
                  <a:t>H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4290120" y="5020920"/>
                <a:ext cx="1160640" cy="1048320"/>
                <a:chOff x="4290120" y="5020920"/>
                <a:chExt cx="1160640" cy="1048320"/>
              </a:xfrm>
            </p:grpSpPr>
            <p:sp>
              <p:nvSpPr>
                <p:cNvPr id="390" name=""/>
                <p:cNvSpPr/>
                <p:nvPr/>
              </p:nvSpPr>
              <p:spPr>
                <a:xfrm rot="2870400">
                  <a:off x="5109120" y="5108400"/>
                  <a:ext cx="108000" cy="41256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6362000">
                  <a:off x="4444200" y="5392800"/>
                  <a:ext cx="108000" cy="41220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2433000">
                  <a:off x="4580640" y="5605560"/>
                  <a:ext cx="116280" cy="38268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842360" y="5688000"/>
                  <a:ext cx="116640" cy="38124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rot="18838200">
                  <a:off x="5109120" y="5573520"/>
                  <a:ext cx="108000" cy="41256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rot="16465200">
                  <a:off x="5186880" y="5343120"/>
                  <a:ext cx="107640" cy="41220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922200">
                  <a:off x="4881240" y="5029200"/>
                  <a:ext cx="115200" cy="38124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8060000">
                  <a:off x="4491720" y="5193000"/>
                  <a:ext cx="108000" cy="41220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20115000">
                  <a:off x="4638600" y="5052600"/>
                  <a:ext cx="116640" cy="38124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8" y="6"/>
                      </a:lnTo>
                      <a:lnTo>
                        <a:pt x="0" y="9"/>
                      </a:lnTo>
                      <a:lnTo>
                        <a:pt x="8" y="13"/>
                      </a:lnTo>
                      <a:lnTo>
                        <a:pt x="0" y="17"/>
                      </a:lnTo>
                      <a:lnTo>
                        <a:pt x="8" y="21"/>
                      </a:lnTo>
                      <a:lnTo>
                        <a:pt x="0" y="24"/>
                      </a:lnTo>
                      <a:lnTo>
                        <a:pt x="8" y="28"/>
                      </a:lnTo>
                      <a:lnTo>
                        <a:pt x="0" y="32"/>
                      </a:lnTo>
                      <a:lnTo>
                        <a:pt x="8" y="35"/>
                      </a:lnTo>
                      <a:lnTo>
                        <a:pt x="0" y="39"/>
                      </a:lnTo>
                      <a:lnTo>
                        <a:pt x="8" y="43"/>
                      </a:lnTo>
                      <a:lnTo>
                        <a:pt x="4" y="45"/>
                      </a:lnTo>
                    </a:path>
                  </a:pathLst>
                </a:custGeom>
                <a:noFill/>
                <a:ln w="12600">
                  <a:solidFill>
                    <a:srgbClr val="ffff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704480" y="5410440"/>
                  <a:ext cx="342000" cy="315720"/>
                </a:xfrm>
                <a:prstGeom prst="ellipse">
                  <a:avLst/>
                </a:prstGeom>
                <a:noFill/>
                <a:ln w="31680">
                  <a:solidFill>
                    <a:srgbClr val="ff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EBD-F07A-472F-B80B-9F4F04F333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7:54:07Z</dcterms:created>
  <dc:creator>povst</dc:creator>
  <dc:description/>
  <dc:language>en-US</dc:language>
  <cp:lastModifiedBy>Вячеслав Альмяшев</cp:lastModifiedBy>
  <dcterms:modified xsi:type="dcterms:W3CDTF">2006-07-06T12:16:37Z</dcterms:modified>
  <cp:revision>288</cp:revision>
  <dc:subject/>
  <dc:title>ФОРМИРОВАНИЕ СТАБИЛИЗИРУЮЩИХ И МОДИФИЦИРУЮЩИХ  СЛОЕВ НА ПОВЕРХНОСТИ ВЫСОКОДИСПЕРСНЫХ ЧАСТИЦ ЖЕЛЕЗА  </dc:title>
</cp:coreProperties>
</file>